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053-0296-41A9-9F17-7E03B254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8B4-CF63-46D9-9A81-85D599C4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2CD-4739-48AB-9A64-881A18B0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D4A-6968-49F9-ABC0-8C04B380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014-7DB7-419C-943C-F66684E8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EFE-274B-466A-90EE-0974DB8A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712-C293-4EFA-9D97-94B657B8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ABD-58B1-457C-A7F5-F2695337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27A-3150-4E34-B568-AFFCA466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CC3-868D-480F-86AB-213F36A8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029-380D-4690-AD86-3C7B2819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4CA-F273-450E-954E-F1631340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6400" indent="-4464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966240" indent="-37260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486440" indent="-2977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2080080" indent="-2973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494480"/>
            <a:ext cx="341316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494480"/>
            <a:ext cx="463248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494480"/>
            <a:ext cx="341316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A73266B4-D075-4CD0-8BE4-684290A92B28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6920" y="2555640"/>
            <a:ext cx="12436560" cy="1765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9:49:02Z</dcterms:created>
  <dc:creator>baileyc</dc:creator>
  <dc:description/>
  <dc:language>en-US</dc:language>
  <cp:lastModifiedBy>baileyc</cp:lastModifiedBy>
  <dcterms:modified xsi:type="dcterms:W3CDTF">2012-05-07T19:49:23Z</dcterms:modified>
  <cp:revision>1</cp:revision>
  <dc:subject/>
  <dc:title>Slide 1</dc:title>
</cp:coreProperties>
</file>