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FF9-2780-4598-8612-E083BE34B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E34-755F-4C80-AD9E-F511E3A1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B46C-3382-4133-933E-D9FE6AC8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82A-2959-4EF5-98FB-820D3811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6B8-8A0B-4ADE-8D82-86A28C08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947-82B6-4C7A-9483-9CA58432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2CD-82B7-47F0-B8D5-D00ABBFB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1CC9-1FFB-4BC1-BEF3-5D3642FA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32D-E12F-4553-9B82-FB97C8BC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60A-704F-42AC-A03F-AE431B2F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03E5-5205-45B3-9AA1-E57AC59E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DD5-F4F4-43A7-9206-3715A79F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6400" indent="-4464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966240" indent="-37260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486440" indent="-2977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080080" indent="-29736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494480"/>
            <a:ext cx="463248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494480"/>
            <a:ext cx="3413160" cy="5716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Autofit/>
          </a:bodyPr>
          <a:lstStyle>
            <a:lvl1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fld id="{1D519508-FED5-4CD0-9B8A-09C13E83C8DE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6920" y="2555640"/>
            <a:ext cx="12436560" cy="17650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3840" y="4664160"/>
            <a:ext cx="1024272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1306440"/>
                <a:tab algn="l" pos="2612880"/>
                <a:tab algn="l" pos="3919680"/>
                <a:tab algn="l" pos="5226120"/>
                <a:tab algn="l" pos="6532560"/>
                <a:tab algn="l" pos="7839000"/>
                <a:tab algn="l" pos="9145440"/>
                <a:tab algn="l" pos="10452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49:02Z</dcterms:created>
  <dc:creator>baileyc</dc:creator>
  <dc:description/>
  <dc:language>en-US</dc:language>
  <cp:lastModifiedBy>baileyc</cp:lastModifiedBy>
  <dcterms:modified xsi:type="dcterms:W3CDTF">2012-05-07T19:49:23Z</dcterms:modified>
  <cp:revision>1</cp:revision>
  <dc:subject/>
  <dc:title>Slide 1</dc:title>
</cp:coreProperties>
</file>