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2DF-57B0-42C3-80D7-BE8AB297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F17-35D7-476F-A859-58359DD2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55B-874D-47D2-8896-78F942CE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C9ED-439B-4857-952D-62694186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C0BC-4516-4139-AC98-18CDE850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A31B-E192-469C-A3E8-6124BE94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0617-D337-4548-AD0E-1E304457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0BCC-B9F1-4222-BC9D-7EB5E51B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E6D7-6073-4673-9B2F-98C4DE9E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FED2-0BAD-4A10-B6AB-E068094A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08DF-2613-4FD4-A6C9-66F4B307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7F7-4D7B-4273-9D4E-7A055346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334D-F908-41DB-9841-674C02A0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D9F4-2EF8-4FB7-91BD-F0F80E8C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8755-0BDD-4A33-BDE6-3729456B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B13C-69C9-4374-8707-71796527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6C38-DABE-4C5B-AE28-D20B12E0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767-07BE-4865-82C0-7D271FC3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F24-951A-45C8-BEAB-C92347FA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300B-13D1-4EC9-9C12-F6212830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FBF0-4A1E-4708-AF8C-3C4FD991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0E7-D116-444C-9A88-E82CD330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7BB1-E5CC-4462-AD99-A9ACEC36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8A56-6861-457D-A5D0-826F70B8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D722-9C5D-49AE-A739-830A6AE0E7E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981080" cy="67140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rcRect l="0" t="0" r="0" b="33776"/>
          <a:stretch/>
        </p:blipFill>
        <p:spPr>
          <a:xfrm>
            <a:off x="762120" y="5410080"/>
            <a:ext cx="838188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82BE-63C2-4764-B75B-765DE0E4F19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05720" y="6019920"/>
            <a:ext cx="1981080" cy="67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dget Information Session</a:t>
            </a: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nuary 28,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6858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ing Up th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 and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dget Tim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May – VPs and president make final adjustments to recommendation based on legislative decisions and forward to Trustees for review and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1 – Budget takes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ernor’s Budget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the Challe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s of 17% in the second year of the bien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uition increase would reduce that to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of $4.1 million in 2010 and $6.5 million in 2011 (after tuition increa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797360" y="2928960"/>
          <a:ext cx="369576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7360" y="2928960"/>
                    <a:ext cx="36957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ernor’s Budget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the Challe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worse in the final budget from the legisl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budget planning is at 10 and 15 perc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% of our budget is salaries and benefits so position cuts will b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dget Princi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decisions should reflect the college’s commitment to teaching and learning in interdisciplinary/interactive programs and courses for a diverse community of students, faculty and staff.  At the same time, we need to focus on the needs of current and future stude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dget Princi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ctivities and services must continue to be accomplished within the context of a small public liberal arts college (determining what is essential to our missi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dget Princi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s should be prioritized rather than attempting to evenly distribute the entire reduction amount across-the-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green is not an island.  There are issues beyond the college’s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dget Tim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to early February – VPs continue gathering info and develop more detailed budget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– VPs compare scenarios across divisions and develop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dget Tim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s share draft recommendations with campus community before finaliz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us community provides input and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s refine, make recommendations and present to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7 – Scheduled end of legislative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2T15:40:07Z</dcterms:created>
  <dc:creator>Todd Sprague</dc:creator>
  <dc:description/>
  <dc:language>en-US</dc:language>
  <cp:lastModifiedBy>Todd Sprague</cp:lastModifiedBy>
  <dcterms:modified xsi:type="dcterms:W3CDTF">2009-01-28T18:59:29Z</dcterms:modified>
  <cp:revision>78</cp:revision>
  <dc:subject/>
  <dc:title>An Integrated  Marketing Approach</dc:title>
</cp:coreProperties>
</file>