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45B-97F9-432A-A437-DF1DFCC5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971-ED16-40B9-8D75-6B2908C6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B60B-CED0-4D9A-B362-69C5C5D1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E55-13F4-4AA6-AA98-B6A5CFDF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605A-BB0F-4BCC-9D12-5C0A0626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4EF8-F608-4DE0-84C2-678F90E1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260B-48CE-4FF2-B781-DB594FA1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048-FB62-4AD7-8E6A-72882C1A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F073-A3D5-4E91-9E8E-FFCDACC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AA3-922B-461F-9CE7-14250F4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6090-50A2-4F13-81C5-442F8046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9DC-B9BC-438F-A130-E48E725B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0AE3-26B0-4996-A963-E7DDFEEE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EB38-2CC3-4F53-81CA-45C77A2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83DF-3953-4401-8B60-D3C8E6E8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226D-48CC-4B0C-8450-CA179E8C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6FF-46E0-472D-B75D-1E0CE3E3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D22-77FA-45E9-B678-EC84FF9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F89-C00F-4454-98CE-704820D1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A6F-14B7-4E1F-9D48-783F89B9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F91-C80D-4FD9-AE4B-589654E0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262-AB9D-473F-9097-3FDADD16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6A1-F424-4EF9-A3CF-1CCEA64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7F4-E9DA-45AB-A03C-CFD4AC5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F4E0-EA15-421E-8319-1100EDC96D5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81080" cy="6714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rcRect l="0" t="0" r="0" b="33776"/>
          <a:stretch/>
        </p:blipFill>
        <p:spPr>
          <a:xfrm>
            <a:off x="762120" y="5410080"/>
            <a:ext cx="838188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78AD-2843-4338-AA0B-108752F4F0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6019920"/>
            <a:ext cx="198108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Information Session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8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6858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ing Up th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 and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May – VPs and president make final adjustments to recommendation based on legislative decisions and forward to Trustees for review and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 – Budget take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or’s Budge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of 17% in the second year of the bien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uition increase would reduce that to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of $4.1 million in 2010 and $6.5 million in 2011 (after tuition incre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97360" y="2928960"/>
          <a:ext cx="369576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7360" y="2928960"/>
                    <a:ext cx="3695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or’s Budget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worse in the final budget from the legisl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budget planning is at 10 and 15 perc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% of our budget is salaries and benefits so position cuts will b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decisions should reflect the college’s commitment to teaching and learning in interdisciplinary/interactive programs and courses for a diverse community of students, faculty and staff.  At the same time, we need to focus on the needs of current and future stud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ctivities and services must continue to be accomplished within the context of a small public liberal arts college (determining what is essential to our missi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Princi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s should be prioritized rather than attempting to evenly distribute the entire reduction amount across-the-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green is not an island.  There are issues beyond the college’s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and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to early February – VPs continue gathering info and develop more detailed budget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– VPs compare scenarios across divisions and develop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s share draft recommendations with campus community before final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us community provides input and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s refine, make recommendations and present to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7 – Scheduled end of legislativ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15:40:07Z</dcterms:created>
  <dc:creator>Todd Sprague</dc:creator>
  <dc:description/>
  <dc:language>en-US</dc:language>
  <cp:lastModifiedBy>Todd Sprague</cp:lastModifiedBy>
  <dcterms:modified xsi:type="dcterms:W3CDTF">2009-01-28T18:59:29Z</dcterms:modified>
  <cp:revision>78</cp:revision>
  <dc:subject/>
  <dc:title>An Integrated  Marketing Approach</dc:title>
</cp:coreProperties>
</file>