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895-5CE2-43D3-A3D6-9F1DA8B9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8C4-EE8E-43CE-BBA3-783189B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C7F-6F5B-4E36-9527-60EF11F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C9D-D491-4BF7-9C44-F02FAD9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C6D-14A1-42A3-86A4-6AA7BA05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6C9F-10BE-40C0-9748-042E930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9084-F495-443C-9D4B-6B33644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CA50-6300-49F2-87FC-498EFF2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B5E-3969-492A-B017-4E15C18D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A2EA-7D32-4CBA-9CAD-C4E72156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033-1156-40C9-8A07-C7C4956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4B8-6718-484C-B870-9BFBF51A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FADF-6729-4438-B477-AEFEF25A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FCE8-1547-4444-AECA-434F429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5BAD-73A1-46B3-BF9F-7AEC34A3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2F6-83A6-4813-8B8D-580D955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DA0C-06E0-42D5-B321-62748896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4E9-5F14-4727-B7F9-C66AF70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B4A-74A4-45F7-8DF9-A07B09D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038-3D17-4A94-8EF2-B9C2F55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4A0-30DC-4B47-953A-D1BB3AEF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A95-014F-40D6-B552-E21532BA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778-B365-4DE2-AC46-B6B7276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B40-4ACB-4DE9-B556-0DC1666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D72-9292-4BAC-BB62-005D97C627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CBCE-F441-4713-9D36-3329091CF2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om Data to Inform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nking Institutional Research Data to Student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4038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PA/ Capstone Project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pring 2008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ed by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madou B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89548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I coordinate the Evergreen Queer Alliance, and that has also taught me a lot in terms of running a club and facilitating meeting and working with people… that’s definitely brought out a lot of my need to be assertive and leadership skills.”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(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ransfer Student Project responden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__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thodology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vergreen Institutional Research and Assess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National Survey for Student Engagement (NS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New Student Survey (ENS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Student Experience Survey (ES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nrollment Statistic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ud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tudent groups ( Child Care Center, SESAME,  Evergreen Bike Shop, KAOS, CPJ, Chemistry Club, Umoja, MeCHA, Queer Alliance….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_____________Findings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0" y="10663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Evergreen Students' participation in Co-curricular activiti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Support students need to thrive sociall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Cope with non-academic responsibilities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029200" cy="26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0292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733920"/>
          <a:ext cx="51055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510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Utilization of the Child Care Servic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600200"/>
          <a:ext cx="8763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How do Evergreen students studying on the Olympia  campus commut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o you identify as a minority in terms of sexual or gender orientatio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ow do you identify racially/ethnically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atterns Associated with Race, Ethnicity, Gender Identity and Sexual Orient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4495680" cy="25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44956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2362320"/>
          <a:ext cx="4419720" cy="251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362320"/>
                    <a:ext cx="44197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__Limitation/ Future Research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ressing specific ques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coordinators have a vague idea about IR and what the office can prov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questions are out of the IR research sc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coma campus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groups resear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56:45Z</dcterms:created>
  <dc:creator>Brooke McLane-Higginson</dc:creator>
  <dc:description/>
  <dc:language>en-US</dc:language>
  <cp:lastModifiedBy>Jennifer B Rodriguez</cp:lastModifiedBy>
  <dcterms:modified xsi:type="dcterms:W3CDTF">2008-06-11T23:37:40Z</dcterms:modified>
  <cp:revision>13</cp:revision>
  <dc:subject/>
  <dc:title>From Data to Information: Linking Institutional Research Data to Student Activities</dc:title>
</cp:coreProperties>
</file>