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CF3D-F675-4388-B16C-720BB8BC5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3CBB-9AC4-4667-B72C-F6B438E0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998A-72BC-4C87-BCD0-13D922370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BBC8-15A2-4F31-A0C5-212BD59A6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6DE1-7FC8-4CCC-866D-5E9E36A08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45085-C14D-4C32-802B-149C3898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CDEC4-FB69-485D-B533-1796CA7A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D65E3-AB4A-44AE-A7BC-8A3958F2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D8EC4-4DEA-4202-B09B-F1C20EC4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C3FE-F624-4E8C-A30E-4936E0E4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1FF2-DC4E-4884-A682-92B03D19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D826-A3F9-4C07-8944-BC381CE3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D614-FF04-4DD8-8A57-4343F7F7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7B27-BF9E-4F8C-90EF-EA7797E6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F93F-955C-4453-8915-EB6B47E2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4990-4885-4586-8759-6F7B3D458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4A7D-5640-4FD7-BB75-15CD44E74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F763-C58A-4AFE-B0B7-3F258B6B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DB17-9AA0-48E4-8FFE-7D06EAD0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8506-9182-4FEE-8032-6DA483AE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D8D7-C27C-498F-8EBA-B0B91ACE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E5D0-7C8D-40F0-BE7C-E3CF6EE2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A15A-200A-4BD2-88B5-D4293247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1E97-3A0A-4EB2-869C-7BB314E9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2970-11B4-40BA-8080-DBD34F24298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D29A-1749-4F0A-9DE5-6BC9130D2E6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From Data to Information: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Linking Institutional Research Data to Student Activiti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28600" y="5105520"/>
            <a:ext cx="40384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MPA/ Capstone Project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Spring 2008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Presented by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Amadou B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2819520" y="2895480"/>
            <a:ext cx="6324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eaeaea"/>
                </a:solidFill>
                <a:latin typeface="Arial"/>
              </a:rPr>
              <a:t>I coordinate the Evergreen Queer Alliance, and that has also taught me a lot in terms of running a club and facilitating meeting and working with people… that’s definitely brought out a lot of my need to be assertive and leadership skills.”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(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ransfer Student Project respondent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____________</a:t>
            </a:r>
            <a:r>
              <a:rPr b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Methodology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__________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Evergreen Institutional Research and Assessmen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National Survey for Student Engagement (NSSE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Evergreen New Student Survey (ENSS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Evergreen Student Experience Survey (ESES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Enrollment Statistic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Student Activiti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Student groups ( Child Care Center, SESAME,  Evergreen Bike Shop, KAOS, CPJ, Chemistry Club, Umoja, MeCHA, Queer Alliance…..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_____________Findings_________________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29200" y="1066320"/>
            <a:ext cx="4114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Evergreen Students' participation in Co-curricular activities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Support students need to thrive socially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Cope with non-academic responsibilities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2580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eaeaea"/>
                </a:solidFill>
                <a:latin typeface="Verdana"/>
              </a:rPr>
              <a:t>        </a:t>
            </a:r>
            <a:endParaRPr b="0" lang="en-US" sz="6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0" y="1066680"/>
          <a:ext cx="5029200" cy="265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502920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0" y="3733920"/>
          <a:ext cx="5105520" cy="2666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733920"/>
                    <a:ext cx="510552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Utilization of the Child Care Services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80880" y="1600200"/>
          <a:ext cx="8763120" cy="44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76312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</a:rPr>
              <a:t>How do Evergreen students studying on the Olympia  campus commute?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77240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mographic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marL="47880" indent="-478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Do you identify as a minority in terms of sexual or gender orientation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7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7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7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7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7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7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7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7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7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7880" indent="-478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How do you identify racially/ethnically?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7880" indent="-478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Patterns Associated with Race, Ethnicity, Gender Identity and Sexual Orientatio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7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28600" y="2362320"/>
          <a:ext cx="4495680" cy="253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362320"/>
                    <a:ext cx="4495680" cy="25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4724280" y="2362320"/>
          <a:ext cx="4419720" cy="2516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362320"/>
                    <a:ext cx="4419720" cy="25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cc"/>
                </a:solidFill>
                <a:uFillTx/>
                <a:latin typeface="Arial"/>
              </a:rPr>
              <a:t>__Limitation/ Future Research__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ddressing specific question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udent coordinators have a vague idea about IR and what the office can provid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me questions are out of the IR research scop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acoma campus dat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udent groups researc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5:56:45Z</dcterms:created>
  <dc:creator>Brooke McLane-Higginson</dc:creator>
  <dc:description/>
  <dc:language>en-US</dc:language>
  <cp:lastModifiedBy>Jennifer B Rodriguez</cp:lastModifiedBy>
  <dcterms:modified xsi:type="dcterms:W3CDTF">2008-06-11T23:37:40Z</dcterms:modified>
  <cp:revision>13</cp:revision>
  <dc:subject/>
  <dc:title>From Data to Information: Linking Institutional Research Data to Student Activities</dc:title>
</cp:coreProperties>
</file>