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58A-14DD-4A12-982B-38C1E2C8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03A-49D8-4489-AA9A-ED1877BE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B9C2-ECA8-4248-9D08-1215AD34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E9E-3C3F-4738-9532-8FFD7CAA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A43-6A1A-479A-9B1E-BB416C46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779-FA11-4E8A-B49D-7DCA0955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9FE4-D880-4976-8D75-5B49285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81D-AD03-4BD1-B11C-D842E4D7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5A5-B53E-422B-82A4-6A080CD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422-D76B-45ED-82EA-1F92353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1C5E-5482-464A-9824-5072204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F76-F144-4ACE-B382-4D3E517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4760-94EA-4C04-84C7-133DFA75D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914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Warm-Up Activity: Measuring 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057400"/>
            <a:ext cx="70102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ing your own body, determ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hands tall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tall is your he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many finger-widths is it from your elbow to the tip of your fin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mpare your results with your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572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A Concise and Abbreviated  History of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791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its of measurement based on the human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24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57600" y="198108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858000" y="1981080"/>
            <a:ext cx="1533600" cy="2847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49687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Yup’ik (Alaska Native) units of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40384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Relief carving of Ancient Greek measurement using hand span and f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502920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Diagram of Egyptian definitions of cubit and pal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455616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Jerry Lipka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7339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Xavier de Jauréguiberry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Sm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2847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267440" cy="2832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4756320"/>
            <a:ext cx="38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Harvard Bridge between Boston and Cambridge, MA.  The Harvard Bridge is 364.4 Smoots in length, plus or minus an e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48769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Oliver Smoot being used to measure the Harvard Bridge in 1958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Denimadept creative commons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MIT museum via Dave Schuma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625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ith trade and taxation came the need for standardized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8320" y="4114800"/>
            <a:ext cx="2819160" cy="166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05320" y="1905120"/>
            <a:ext cx="5016240" cy="113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33520" y="2225520"/>
            <a:ext cx="2514600" cy="1839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451152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 weights for measuring gold dust used by the Asante of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13064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Claudia Zaslavsk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33526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tandardized weights from the Indus river vall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John Hill creative comm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0481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6095880"/>
            <a:ext cx="487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bronze ruler from the Han dynasty in Ch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English or Imperi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137808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181480" y="2438280"/>
            <a:ext cx="196236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28800" y="44197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image credit: Ian White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48769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 credit:  Andrew Robin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487692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early English inch was defined as the length of three barleycorns laid end-to-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273640"/>
            <a:ext cx="312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King George the III of England’s standard weights from 1773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2406600" cy="3657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76920" y="46483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Since 1983, the meter has been defined as the distance that light travels in 1 299,792458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Palatino Linotype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 of a 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257800" y="2362320"/>
            <a:ext cx="2266920" cy="2009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548640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Commemorative stamp showing the French Republic measuring one quarter of the earth’s circumference – the original idea behind the 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1447560" cy="1433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609480"/>
            <a:ext cx="7315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ystems of measurement commonly used in the 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ore about the metric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724280" y="472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14400" y="2286000"/>
            <a:ext cx="2552760" cy="228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487692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Canadian Standard Kilogram.  The kilogram is the only unit in the metric system defined by an actual ob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572000"/>
            <a:ext cx="350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Palatino Linotype"/>
              </a:rPr>
              <a:t>photo credit: Harry Turner, National Reseach Council of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7240" y="2590920"/>
            <a:ext cx="901440" cy="939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5400000">
            <a:off x="5283360" y="2743200"/>
            <a:ext cx="1193760" cy="279360"/>
          </a:xfrm>
          <a:prstGeom prst="parallelogram">
            <a:avLst>
              <a:gd name="adj" fmla="val 106830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4762080" y="2247480"/>
            <a:ext cx="1219320" cy="228600"/>
          </a:xfrm>
          <a:prstGeom prst="parallelogram">
            <a:avLst>
              <a:gd name="adj" fmla="val 133346"/>
            </a:avLst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588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The nickel has a mass of 5 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380988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A cube of water with sides each 1 cm has a mass of 1 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266688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13372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7800" y="1828800"/>
            <a:ext cx="533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Palatino Linotype"/>
              </a:rPr>
              <a:t>1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609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543320"/>
            <a:ext cx="7772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ipka, Jerry, Tod Shockey and Barbara Adams. “Bridging Yup’ik Ways of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easuring to Western Mathematics” in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Learning and Teaching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Measurement: 2003 Yearbook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Ed. Douglas Clements and George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Bright.  The National Council of Teachers of Mathematics, Inc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eston, VA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Robinson, Andrew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The Story of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Thames and Hudson Ltd,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London, UK. 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avernor, Robert.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moot’s Ear: The Measure of Humanity.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Yale University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ess, New Haven, CT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hitelaw, Ian. 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 Measure of All Things: the story of man and measurement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Quid publishing, Hove, England.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Zaslavsky, Claudia.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frica Counts: Number and Pattern in African Culture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Prindle, Weber, and Schmidt Inc, Boston, MA. 19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914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Palatino Linotype"/>
              </a:rPr>
              <a:t>Your turn: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7010280" cy="43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n groups of 2 or 3, discuss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Why do we meas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How do we choose what to use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nk not only in general, but also in the context of your work in you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2:27:13Z</dcterms:created>
  <dc:creator>elliotmi</dc:creator>
  <dc:description/>
  <dc:language>en-US</dc:language>
  <cp:lastModifiedBy>elliotmi</cp:lastModifiedBy>
  <dcterms:modified xsi:type="dcterms:W3CDTF">2012-08-31T00:21:43Z</dcterms:modified>
  <cp:revision>28</cp:revision>
  <dc:subject/>
  <dc:title>Slide 1</dc:title>
</cp:coreProperties>
</file>