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231-01E8-413D-BB6E-63C54800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821-353C-4D07-82AA-B07DDF40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6BB-23E2-4871-B3D6-EA5D72FA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EE6-F77A-442B-A5ED-D033D376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055-B6D2-457E-963C-E9657537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4B8-41FA-4FB4-9BA8-6C54AC2B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BE11-2EE6-4F38-A91F-2D633791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91C-1383-4DEE-92BF-59F83ABF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E64-A03A-44E3-B314-40AAF271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64E-2332-44DF-AFB4-4E628659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31C-4BFC-408F-B28A-503895B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D79-78FF-483D-A1B9-CEE5881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6400" indent="-4464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966240" indent="-37260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486440" indent="-2977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080080" indent="-2973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494480"/>
            <a:ext cx="463248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A77132E7-8DDB-4152-9C28-120CF6751E15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6920" y="2555640"/>
            <a:ext cx="12436560" cy="1765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49:02Z</dcterms:created>
  <dc:creator>baileyc</dc:creator>
  <dc:description/>
  <dc:language>en-US</dc:language>
  <cp:lastModifiedBy>baileyc</cp:lastModifiedBy>
  <dcterms:modified xsi:type="dcterms:W3CDTF">2012-05-07T19:49:23Z</dcterms:modified>
  <cp:revision>1</cp:revision>
  <dc:subject/>
  <dc:title>Slide 1</dc:title>
</cp:coreProperties>
</file>