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D75-E2CC-433A-A8F5-9D4302A0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A92-E71D-47FF-BF0B-2A65E0FF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D0B-76D9-40B3-92D7-77A9C21F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3FB-1EBB-4F5C-9CB8-16281E8F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655-B64E-48CD-B7E6-C3356B9D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737-B38F-482A-B5E6-BEA01267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3112-D80F-4C2F-904F-163DE833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843E-6407-4A28-920E-8704A6D0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DF7-6C2B-4FBA-A22F-5C8D81EC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B88-E170-42D0-8838-9A6E241F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A44-EDAF-4E16-A295-BAB54736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36B-7D8E-45A3-A4E7-37A74994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E5EE-69C4-4372-9486-3C6B7AA2A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914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Warm-Up Activity: Measuring 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057400"/>
            <a:ext cx="7010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ing your own body,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hands tall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tall is your h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is it from your elbow to the tip of your fin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mpare your results with your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A Concise and Abbreviated  History of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791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its of measurement based on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4588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1533600" cy="2847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4968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Yup’ik (Alaska Native) units of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40384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Relief carving of Ancient Greek measurement using hand span and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0292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Egyptian definitions of cubit and pa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55616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Jerry Lipka et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7339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Xavier de Jauréguiberry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762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Sm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284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67440" cy="283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756320"/>
            <a:ext cx="38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Harvard Bridge between Boston and Cambridge, MA.  The Harvard Bridge is 364.4 Smoots in length, plus or minus an e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8769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Oliver Smoot being used to measure the Harvard Bridge in 1958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Denimadept creative commons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MIT museum via Dave Schu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625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 trade and taxation came the need for standardiz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2819160" cy="166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5016240" cy="113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2225520"/>
            <a:ext cx="2514600" cy="183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45115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 weights for measuring gold dust used by the Asante of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3064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Claudia Zaslavs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3526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ized weights from the Indus river val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7913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John Hill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0481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0958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bronze ruler from the Han dynasty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English or Imperi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13780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196236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8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Ian White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48769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 credit: 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87692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early English inch was defined as the length of three barleycorns laid end-to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527364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King George the III of England’s standard weights from 1773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240660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76920" y="46483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ince 1983, the meter has been defined as the distance that light travels in 1 299,792458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Palatino Linotype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 of a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2266920" cy="200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548640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Commemorative stamp showing the French Republic measuring one quarter of the earth’s circumference – the original idea behind the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1447560" cy="1433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ore about 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2286000"/>
            <a:ext cx="255276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487692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Canadian Standard Kilogram.  The kilogram is the only unit in the metric system defined by an actual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57200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Harry Turner, National Reseach Council of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37240" y="2590920"/>
            <a:ext cx="901440" cy="939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5400000">
            <a:off x="5283360" y="2743200"/>
            <a:ext cx="1193760" cy="279360"/>
          </a:xfrm>
          <a:prstGeom prst="parallelogram">
            <a:avLst>
              <a:gd name="adj" fmla="val 10683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4762080" y="224748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0958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nickel has a mass of 5 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3809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cube of water with sides each 1 cm has a mass of 1 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6668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1337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82880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609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54332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ipka, Jerry, Tod Shockey and Barbara Adams. “Bridging Yup’ik Ways of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easuring to Western Mathematics” in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earning and Teaching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Measurement: 2003 Yearbook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Ed. Douglas Clements and George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Bright.  The National Council of Teachers of Mathematics, Inc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eston, VA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obinson, Andrew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The Story of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Thames and Hudson Ltd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ondon, UK. 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avernor, Robert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Smoot’s Ear: The Measure of Humanity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Yale University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ess, New Haven, CT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Whitelaw, Ian. 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 Measure of All Things: the story of man and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Quid publishing, Hove, England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Zaslavsky, Claudia.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frica Counts: Number and Pattern in African Culture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indle, Weber, and Schmidt Inc, Boston, MA.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Your turn: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057400"/>
            <a:ext cx="701028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 groups of 2 or 3, discuss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y do we meas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do we choose what to use to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nk not only in general, but also in the context of your work in you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2:27:13Z</dcterms:created>
  <dc:creator>elliotmi</dc:creator>
  <dc:description/>
  <dc:language>en-US</dc:language>
  <cp:lastModifiedBy>elliotmi</cp:lastModifiedBy>
  <dcterms:modified xsi:type="dcterms:W3CDTF">2012-08-31T00:21:43Z</dcterms:modified>
  <cp:revision>28</cp:revision>
  <dc:subject/>
  <dc:title>Slide 1</dc:title>
</cp:coreProperties>
</file>