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C7F-9429-4093-A93D-D5E831F1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68C-6618-4F0C-B783-D8DCF680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12B-1699-4206-9D04-383C17E3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3BA-C2AB-4BFE-ADD5-4FBFB2ED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375A-7F4D-45B3-AFD1-694CDD36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8AA3-FEF0-41CB-B71A-121BFA8F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145A-27F8-4292-B642-76A044E7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6473-55E4-45A7-BC39-2E48F893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3B35-E585-48B6-B233-CAB42C9F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2831-AFEE-412D-ABBD-6F72C493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C1E7-873E-44B0-A6CA-FFBB72EB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2CA-8A04-463B-8BF7-9E2F08F0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CE2C-2727-4F1F-803A-6708331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451D-ED04-42C1-B60B-5C2D1F1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9EB4-6DA5-44D3-8D1A-54384218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9D25-EBBA-48E6-A423-08147215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2459-9884-4D3B-9E54-ED3E8131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091-751E-4AC6-89FC-AA130707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092-62D6-4596-82C5-93729CF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2FA-EEE1-4520-8C9B-037100BD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CB4-297F-4010-A309-55BA7496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EE4-CF4E-4E8C-A84F-6CE48B99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035-D772-49FE-A174-845D825D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FFD-3D98-448E-8B9A-6356EFD3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21FA-A5C1-4966-8C4A-FD58EC28B28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931B-2C6A-4990-8092-F60025C206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rom Data to Information: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inking Institutional Research Data to Student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5105520"/>
            <a:ext cx="4038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MPA/ Capstone Project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pring 2008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ed by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Amadou B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89548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I coordinate the Evergreen Queer Alliance, and that has also taught me a lot in terms of running a club and facilitating meeting and working with people… that’s definitely brought out a lot of my need to be assertive and leadership skills.”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(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ransfer Student Project responden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____________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ethodology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vergreen Institutional Research and Assess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National Survey for Student Engagement (NSS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vergreen New Student Survey (ENSS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vergreen Student Experience Survey (ESE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nrollment Statistic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tudent Activit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Student groups ( Child Care Center, SESAME,  Evergreen Bike Shop, KAOS, CPJ, Chemistry Club, Umoja, MeCHA, Queer Alliance…..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_____________Findings________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0" y="10663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Evergreen Students' participation in Co-curricular activiti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Support students need to thrive sociall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Cope with non-academic responsibilities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eaeaea"/>
                </a:solidFill>
                <a:latin typeface="Verdana"/>
              </a:rPr>
              <a:t>        </a:t>
            </a: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066680"/>
          <a:ext cx="5029200" cy="26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50292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3733920"/>
          <a:ext cx="510552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33920"/>
                    <a:ext cx="5105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Utilization of the Child Care Servic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600200"/>
          <a:ext cx="8763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How do Evergreen students studying on the Olympia  campus commute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Do you identify as a minority in terms of sexual or gender orientation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-478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How do you identify racially/ethnically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-47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Patterns Associated with Race, Ethnicity, Gender Identity and Sexual Orienta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362320"/>
          <a:ext cx="4495680" cy="25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44956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724280" y="2362320"/>
          <a:ext cx="4419720" cy="251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362320"/>
                    <a:ext cx="44197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__Limitation/ Future Research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ressing specific questio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coordinators have a vague idea about IR and what the office can provi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questions are out of the IR research sc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coma campus da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groups resear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5:56:45Z</dcterms:created>
  <dc:creator>Brooke McLane-Higginson</dc:creator>
  <dc:description/>
  <dc:language>en-US</dc:language>
  <cp:lastModifiedBy>Jennifer B Rodriguez</cp:lastModifiedBy>
  <dcterms:modified xsi:type="dcterms:W3CDTF">2008-06-11T23:37:40Z</dcterms:modified>
  <cp:revision>13</cp:revision>
  <dc:subject/>
  <dc:title>From Data to Information: Linking Institutional Research Data to Student Activities</dc:title>
</cp:coreProperties>
</file>