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7D4-29AD-4861-B8CC-43DEC159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EC4-C4BC-411F-89BB-121F50EB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DEE-70AF-4D92-92E9-868B5947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BB3-0954-41BF-A9B1-354C5F58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EA7-7718-4DC4-A839-EF0C800A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7745-2DE7-4156-98C4-C142660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EC7-2DCE-4D99-A63A-B67B1848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7B0-B779-43EF-A0D2-1EB591F9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93EB-97F2-4221-A429-B8F8138A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E46-9EA3-441F-AEB5-0D846E57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CE1-97C1-4B69-8A35-CB9343D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420-BAB6-4459-8745-EE7A1CA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B9CD-B3CB-4031-ABAE-D76A0A3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3AD-64F6-4132-8E9A-C61FBBC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F10-9E01-4EF6-978F-EAC409E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B14-8602-4AF7-BDE5-75094DF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0144-BD46-4B22-A7AF-D69B5696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94D-1F55-419A-8E0C-E71503ED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546-D215-4170-89E3-A9ABDC4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FCA-0BDF-49DE-A8E4-A980061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0FC-5D58-4398-A9FC-B979D9D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2AC-9ACC-4835-A26F-E4C54DC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743-2BAC-45A1-82C3-795F67D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01-FDE5-414D-A568-D044844A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313-3F32-4D5B-9D2D-FE34D4DDD8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F21D-CC8D-416D-AC16-90AEA9724C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om Data to Inform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nking Institutional Research Data to Student Activ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4038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PA/ Capstone Project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pring 2008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ed by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madou B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89548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I coordinate the Evergreen Queer Alliance, and that has also taught me a lot in terms of running a club and facilitating meeting and working with people… that’s definitely brought out a lot of my need to be assertive and leadership skills.”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(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ransfer Student Project respondent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__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thodology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Evergreen Institutional Research and Assess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National Survey for Student Engagement (NS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New Student Survey (ENS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vergreen Student Experience Survey (ES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Enrollment Statistic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udent Activit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tudent groups ( Child Care Center, SESAME,  Evergreen Bike Shop, KAOS, CPJ, Chemistry Club, Umoja, MeCHA, Queer Alliance….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_____________Findings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0" y="10663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Evergreen Students' participation in Co-curricular activiti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Support students need to thrive sociall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Cope with non-academic responsibilities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066680"/>
          <a:ext cx="5029200" cy="26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50292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3733920"/>
          <a:ext cx="51055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33920"/>
                    <a:ext cx="5105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Utilization of the Child Care Servic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600200"/>
          <a:ext cx="8763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How do Evergreen students studying on the Olympia  campus commut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Do you identify as a minority in terms of sexual or gender orientatio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ow do you identify racially/ethnically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7880" indent="-47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atterns Associated with Race, Ethnicity, Gender Identity and Sexual Orienta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7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362320"/>
          <a:ext cx="4495680" cy="25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44956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2362320"/>
          <a:ext cx="4419720" cy="251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362320"/>
                    <a:ext cx="44197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__Limitation/ Future Research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ressing specific ques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coordinators have a vague idea about IR and what the office can prov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questions are out of the IR research sc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coma campus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groups resear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56:45Z</dcterms:created>
  <dc:creator>Brooke McLane-Higginson</dc:creator>
  <dc:description/>
  <dc:language>en-US</dc:language>
  <cp:lastModifiedBy>Jennifer B Rodriguez</cp:lastModifiedBy>
  <dcterms:modified xsi:type="dcterms:W3CDTF">2008-06-11T23:37:40Z</dcterms:modified>
  <cp:revision>13</cp:revision>
  <dc:subject/>
  <dc:title>From Data to Information: Linking Institutional Research Data to Student Activities</dc:title>
</cp:coreProperties>
</file>