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38C-365E-4C88-A7E8-6936F0F3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F10-4725-4EBD-9B4D-2578FF93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9EA-660C-40C5-82FA-676F31EA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0E7-A3F8-48A2-B069-E534B963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199-5EEB-44E6-BD66-B5FC1F84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951-3635-4743-9E74-16F79E1A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179-8E07-458B-A8C1-BAC0B455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69B-D66C-400E-9156-961B226E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D1F-6BFE-4665-9EED-835A8D79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2F8-D45F-4766-9E56-727E149E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683-7DC0-4F62-8E5F-5820CAD6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4E92-EC6A-44EA-B615-21E9FD71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F134-E224-4004-827B-3C77DAE3F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914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Warm-Up Activity: Measuring Our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057400"/>
            <a:ext cx="7010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sing your own body,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hands tall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finger-widths tall is your h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finger-widths is it from your elbow to the tip of your fin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ompare your results with your neighb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4572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A Concise and Abbreviated  History of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791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nits of measurement based on the 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245880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0" y="1981080"/>
            <a:ext cx="1533600" cy="2847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4968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Diagram of Yup’ik (Alaska Native) units of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403848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Relief carving of Ancient Greek measurement using hand span and 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02920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Diagram of Egyptian definitions of cubit and pa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55616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image credit: Jerry Lipka et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73392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Xavier de Jauréguiberry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762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Sm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2847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267440" cy="2832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4756320"/>
            <a:ext cx="38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Harvard Bridge between Boston and Cambridge, MA.  The Harvard Bridge is 364.4 Smoots in length, plus or minus an e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48769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Oliver Smoot being used to measure the Harvard Bridge in 1958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Denimadept creative commons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MIT museum via Dave Schum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625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ith trade and taxation came the need for standardiz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4114800"/>
            <a:ext cx="2819160" cy="1666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505320" y="1905120"/>
            <a:ext cx="5016240" cy="1136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3520" y="2225520"/>
            <a:ext cx="2514600" cy="183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45115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tandard weights for measuring gold dust used by the Asante of Gh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13064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Claudia Zaslavsk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335268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tandardized weights from the Indus river val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57913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John Hill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30481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Andrew Robin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609588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A bronze ruler from the Han dynasty in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English or Imperi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137808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81480" y="2438280"/>
            <a:ext cx="1962360" cy="22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288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image credit: Ian White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48769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 credit:  Andrew Robin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487692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early English inch was defined as the length of three barleycorns laid end-to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527364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King George the III of England’s standard weights from 1773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Metric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2406600" cy="3657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76920" y="46483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ince 1983, the meter has been defined as the distance that light travels in 1 299,792458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Palatino Linotype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 of a 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257800" y="2362320"/>
            <a:ext cx="2266920" cy="2009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548640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Commemorative stamp showing the French Republic measuring one quarter of the earth’s circumference – the original idea behind the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1447560" cy="1433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ore about the metric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" y="2286000"/>
            <a:ext cx="2552760" cy="228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2120" y="487692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Canadian Standard Kilogram.  The kilogram is the only unit in the metric system defined by an actual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4572000"/>
            <a:ext cx="35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Harry Turner, National Reseach Council of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37240" y="2590920"/>
            <a:ext cx="901440" cy="939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rot="5400000">
            <a:off x="5283360" y="2743200"/>
            <a:ext cx="1193760" cy="279360"/>
          </a:xfrm>
          <a:prstGeom prst="parallelogram">
            <a:avLst>
              <a:gd name="adj" fmla="val 10683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4762080" y="224748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60958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nickel has a mass of 5 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38098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A cube of water with sides each 1 cm has a mass of 1 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266688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21337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182880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609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543320"/>
            <a:ext cx="7772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ipka, Jerry, Tod Shockey and Barbara Adams. “Bridging Yup’ik Ways of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Measuring to Western Mathematics” in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Learning and Teaching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Measurement: 2003 Yearbook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Ed. Douglas Clements and George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Bright.  The National Council of Teachers of Mathematics, Inc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Reston, VA.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Robinson, Andrew.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The Story of Measurement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 Thames and Hudson Ltd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ondon, UK. 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avernor, Robert.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Smoot’s Ear: The Measure of Humanity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Yale University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ress, New Haven, CT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Whitelaw, Ian. 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A Measure of All Things: the story of man and measurement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Quid publishing, Hove, England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Zaslavsky, Claudia.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Africa Counts: Number and Pattern in African Culture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rindle, Weber, and Schmidt Inc, Boston, MA. 19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914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Your turn: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057400"/>
            <a:ext cx="701028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 groups of 2 or 3, discuss the following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y do we meas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do we choose what to use to meas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nk not only in general, but also in the context of your work in your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22:27:13Z</dcterms:created>
  <dc:creator>elliotmi</dc:creator>
  <dc:description/>
  <dc:language>en-US</dc:language>
  <cp:lastModifiedBy>elliotmi</cp:lastModifiedBy>
  <dcterms:modified xsi:type="dcterms:W3CDTF">2012-08-31T00:21:43Z</dcterms:modified>
  <cp:revision>28</cp:revision>
  <dc:subject/>
  <dc:title>Slide 1</dc:title>
</cp:coreProperties>
</file>