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ashreg.wav" ContentType="audio/x-wav"/>
  <Override PartName="/ppt/media/image8.wmf" ContentType="image/x-wmf"/>
  <Override PartName="/ppt/media/drumroll.wav" ContentType="audio/x-wav"/>
  <Override PartName="/ppt/media/image9.wmf" ContentType="image/x-wmf"/>
  <Override PartName="/ppt/media/image13.gif" ContentType="image/gif"/>
  <Override PartName="/ppt/media/image11.jpeg" ContentType="image/jpeg"/>
  <Override PartName="/ppt/media/image1.png" ContentType="image/png"/>
  <Override PartName="/ppt/media/explode.wav" ContentType="audio/x-wav"/>
  <Override PartName="/ppt/media/image10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glass.wav" ContentType="audio/x-wav"/>
  <Override PartName="/ppt/media/applause.wav" ContentType="audio/x-wav"/>
  <Override PartName="/ppt/media/image6.wmf" ContentType="image/x-wmf"/>
  <Override PartName="/ppt/media/image7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BF5F-A2DC-44A5-B3D6-AE1C8A42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3E63-BC88-48EB-94E3-12FA9A4C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8C1E-63E6-4B77-B6D7-B00C4D15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31D-3FC0-4079-9279-17BCB925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188C-C229-4A97-881F-AA06B823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5CFC-CE46-4474-9E26-FDE60E7C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A87A-72D7-4290-82CF-6EE87303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3088-0CA9-4444-950E-FE4E78D5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94AE-52F4-410B-9724-4CF688FC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F40F-18F2-4E88-BB92-5F94CFF4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FE1B-72AB-48B0-8C93-AF63CA84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D63F-FF3A-401C-B505-ECA505ED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72F9-867B-4D01-A43D-78287357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50A8-C46D-4611-A196-F6F27001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7676-3210-4527-8ED3-45146298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6C5D-E129-46EF-80F4-60F7E9C8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4A62-2F59-41F3-B5F0-1D1B1A54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B5F-7454-459B-A844-3EF83018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84FD-B230-4FD7-95AE-AA43CBB5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2376-AE9F-40D8-9A68-2E600430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47B-C76D-47A1-B52A-C72CA044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8A6-6A0F-4CB1-92E6-E7A23C4B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917F-9D02-4E96-BB15-6075FFFC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DBB-AE60-49C1-98D9-54D64291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a1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371600"/>
            <a:ext cx="8458200" cy="87480"/>
          </a:xfrm>
          <a:prstGeom prst="rect">
            <a:avLst/>
          </a:prstGeom>
          <a:solidFill>
            <a:srgbClr val="a4f218"/>
          </a:solidFill>
          <a:ln w="9360">
            <a:solidFill>
              <a:srgbClr val="a4f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361800" cy="184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95880" y="6095880"/>
            <a:ext cx="3048120" cy="76320"/>
          </a:xfrm>
          <a:prstGeom prst="rect">
            <a:avLst/>
          </a:prstGeom>
          <a:solidFill>
            <a:srgbClr val="a4f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4f7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693C-E6A9-4BD7-AB4B-71FEA4630B1E}" type="slidenum">
              <a:rPr b="0" lang="en-US" sz="1400" spc="-1" strike="noStrike">
                <a:solidFill>
                  <a:srgbClr val="f4f7e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836640"/>
            <a:ext cx="8158320" cy="13730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57240">
            <a:solidFill>
              <a:srgbClr val="a4f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eaf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6588-1374-430A-93C7-EA2EF03AE64B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0280" y="5943600"/>
            <a:ext cx="7543800" cy="0"/>
          </a:xfrm>
          <a:prstGeom prst="line">
            <a:avLst/>
          </a:prstGeom>
          <a:ln w="57240">
            <a:solidFill>
              <a:srgbClr val="a4f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4b3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audio" Target="../media/drumroll.wav"/><Relationship Id="rId7" Type="http://schemas.openxmlformats.org/officeDocument/2006/relationships/audio" Target="../media/glass.wav"/><Relationship Id="rId8" Type="http://schemas.openxmlformats.org/officeDocument/2006/relationships/audio" Target="../media/explode.wav"/><Relationship Id="rId9" Type="http://schemas.openxmlformats.org/officeDocument/2006/relationships/audio" Target="../media/cashreg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eafe"/>
                </a:solidFill>
                <a:latin typeface="Arial"/>
              </a:rPr>
              <a:t>Merit Review and</a:t>
            </a:r>
            <a:br>
              <a:rPr sz="3600"/>
            </a:br>
            <a:r>
              <a:rPr b="1" lang="en-US" sz="3600" spc="-1" strike="noStrike">
                <a:solidFill>
                  <a:srgbClr val="b2eafe"/>
                </a:solidFill>
                <a:latin typeface="Arial"/>
              </a:rPr>
              <a:t>Proposal Preparation</a:t>
            </a:r>
            <a:endParaRPr b="0" lang="en-US" sz="36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3124080"/>
            <a:ext cx="5715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Mark Courtne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ivision of Environmental Biolog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mcourtne@nsf.go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62520" y="47242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4a1c"/>
                </a:solidFill>
                <a:latin typeface="Arial"/>
              </a:rPr>
              <a:t>Reasons For Funding A Competitive Proposal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191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ikely high impac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I Career Point (tenured/“established”/ “beginning”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lace in Program Portfol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ther Support for P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mpact on Institution/Sta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09840" y="2209320"/>
            <a:ext cx="40338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pecial Programmatic Considerations (CAREER/RUI/EPSCo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ducational Impac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unching” 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versus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“Maintaining”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459320" y="3214800"/>
          <a:ext cx="64116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9320" y="3214800"/>
                    <a:ext cx="641160" cy="1312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 flipV="1">
            <a:off x="2209680" y="2590920"/>
            <a:ext cx="1800" cy="206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 flipH="1">
            <a:off x="1904760" y="4648320"/>
            <a:ext cx="647640" cy="1922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600200" y="1219320"/>
            <a:ext cx="1171440" cy="14000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7315200" y="4888080"/>
            <a:ext cx="642960" cy="152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7" name=""/>
          <p:cNvGrpSpPr/>
          <p:nvPr/>
        </p:nvGrpSpPr>
        <p:grpSpPr>
          <a:xfrm>
            <a:off x="6369120" y="990720"/>
            <a:ext cx="2164680" cy="1717200"/>
            <a:chOff x="6369120" y="990720"/>
            <a:chExt cx="2164680" cy="1717200"/>
          </a:xfrm>
        </p:grpSpPr>
        <p:grpSp>
          <p:nvGrpSpPr>
            <p:cNvPr id="178" name=""/>
            <p:cNvGrpSpPr/>
            <p:nvPr/>
          </p:nvGrpSpPr>
          <p:grpSpPr>
            <a:xfrm>
              <a:off x="7858080" y="1092240"/>
              <a:ext cx="675720" cy="1458000"/>
              <a:chOff x="7858080" y="1092240"/>
              <a:chExt cx="675720" cy="145800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7858080" y="1554120"/>
                <a:ext cx="675720" cy="996120"/>
                <a:chOff x="7858080" y="1554120"/>
                <a:chExt cx="675720" cy="9961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8226720" y="1566000"/>
                  <a:ext cx="278640" cy="226440"/>
                </a:xfrm>
                <a:custGeom>
                  <a:avLst/>
                  <a:gdLst/>
                  <a:ahLst/>
                  <a:rect l="l" t="t" r="r" b="b"/>
                  <a:pathLst>
                    <a:path w="233" h="286">
                      <a:moveTo>
                        <a:pt x="94" y="57"/>
                      </a:moveTo>
                      <a:lnTo>
                        <a:pt x="119" y="26"/>
                      </a:lnTo>
                      <a:lnTo>
                        <a:pt x="146" y="9"/>
                      </a:lnTo>
                      <a:lnTo>
                        <a:pt x="175" y="6"/>
                      </a:lnTo>
                      <a:lnTo>
                        <a:pt x="205" y="15"/>
                      </a:lnTo>
                      <a:lnTo>
                        <a:pt x="224" y="41"/>
                      </a:lnTo>
                      <a:lnTo>
                        <a:pt x="232" y="69"/>
                      </a:lnTo>
                      <a:lnTo>
                        <a:pt x="233" y="114"/>
                      </a:lnTo>
                      <a:lnTo>
                        <a:pt x="226" y="155"/>
                      </a:lnTo>
                      <a:lnTo>
                        <a:pt x="214" y="202"/>
                      </a:lnTo>
                      <a:lnTo>
                        <a:pt x="198" y="234"/>
                      </a:lnTo>
                      <a:lnTo>
                        <a:pt x="168" y="261"/>
                      </a:lnTo>
                      <a:lnTo>
                        <a:pt x="143" y="280"/>
                      </a:lnTo>
                      <a:lnTo>
                        <a:pt x="119" y="286"/>
                      </a:lnTo>
                      <a:lnTo>
                        <a:pt x="90" y="280"/>
                      </a:lnTo>
                      <a:lnTo>
                        <a:pt x="70" y="267"/>
                      </a:lnTo>
                      <a:lnTo>
                        <a:pt x="57" y="234"/>
                      </a:lnTo>
                      <a:lnTo>
                        <a:pt x="57" y="178"/>
                      </a:lnTo>
                      <a:lnTo>
                        <a:pt x="60" y="141"/>
                      </a:lnTo>
                      <a:lnTo>
                        <a:pt x="65" y="104"/>
                      </a:lnTo>
                      <a:lnTo>
                        <a:pt x="72" y="83"/>
                      </a:lnTo>
                      <a:lnTo>
                        <a:pt x="29" y="63"/>
                      </a:lnTo>
                      <a:lnTo>
                        <a:pt x="4" y="51"/>
                      </a:lnTo>
                      <a:lnTo>
                        <a:pt x="0" y="20"/>
                      </a:lnTo>
                      <a:lnTo>
                        <a:pt x="13" y="0"/>
                      </a:lnTo>
                      <a:lnTo>
                        <a:pt x="31" y="9"/>
                      </a:lnTo>
                      <a:lnTo>
                        <a:pt x="65" y="33"/>
                      </a:lnTo>
                      <a:lnTo>
                        <a:pt x="94" y="57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160480" y="1807200"/>
                  <a:ext cx="230400" cy="397800"/>
                </a:xfrm>
                <a:custGeom>
                  <a:avLst/>
                  <a:gdLst/>
                  <a:ahLst/>
                  <a:rect l="l" t="t" r="r" b="b"/>
                  <a:pathLst>
                    <a:path w="194" h="502">
                      <a:moveTo>
                        <a:pt x="43" y="49"/>
                      </a:moveTo>
                      <a:lnTo>
                        <a:pt x="73" y="18"/>
                      </a:lnTo>
                      <a:lnTo>
                        <a:pt x="99" y="1"/>
                      </a:lnTo>
                      <a:lnTo>
                        <a:pt x="126" y="0"/>
                      </a:lnTo>
                      <a:lnTo>
                        <a:pt x="155" y="6"/>
                      </a:lnTo>
                      <a:lnTo>
                        <a:pt x="173" y="25"/>
                      </a:lnTo>
                      <a:lnTo>
                        <a:pt x="182" y="45"/>
                      </a:lnTo>
                      <a:lnTo>
                        <a:pt x="189" y="70"/>
                      </a:lnTo>
                      <a:lnTo>
                        <a:pt x="186" y="107"/>
                      </a:lnTo>
                      <a:lnTo>
                        <a:pt x="172" y="136"/>
                      </a:lnTo>
                      <a:lnTo>
                        <a:pt x="152" y="179"/>
                      </a:lnTo>
                      <a:lnTo>
                        <a:pt x="138" y="203"/>
                      </a:lnTo>
                      <a:lnTo>
                        <a:pt x="130" y="236"/>
                      </a:lnTo>
                      <a:lnTo>
                        <a:pt x="133" y="266"/>
                      </a:lnTo>
                      <a:lnTo>
                        <a:pt x="143" y="284"/>
                      </a:lnTo>
                      <a:lnTo>
                        <a:pt x="163" y="309"/>
                      </a:lnTo>
                      <a:lnTo>
                        <a:pt x="180" y="333"/>
                      </a:lnTo>
                      <a:lnTo>
                        <a:pt x="194" y="359"/>
                      </a:lnTo>
                      <a:lnTo>
                        <a:pt x="194" y="389"/>
                      </a:lnTo>
                      <a:lnTo>
                        <a:pt x="189" y="435"/>
                      </a:lnTo>
                      <a:lnTo>
                        <a:pt x="173" y="469"/>
                      </a:lnTo>
                      <a:lnTo>
                        <a:pt x="159" y="481"/>
                      </a:lnTo>
                      <a:lnTo>
                        <a:pt x="138" y="493"/>
                      </a:lnTo>
                      <a:lnTo>
                        <a:pt x="109" y="502"/>
                      </a:lnTo>
                      <a:lnTo>
                        <a:pt x="82" y="496"/>
                      </a:lnTo>
                      <a:lnTo>
                        <a:pt x="60" y="490"/>
                      </a:lnTo>
                      <a:lnTo>
                        <a:pt x="33" y="457"/>
                      </a:lnTo>
                      <a:lnTo>
                        <a:pt x="12" y="414"/>
                      </a:lnTo>
                      <a:lnTo>
                        <a:pt x="4" y="372"/>
                      </a:lnTo>
                      <a:lnTo>
                        <a:pt x="0" y="299"/>
                      </a:lnTo>
                      <a:lnTo>
                        <a:pt x="9" y="223"/>
                      </a:lnTo>
                      <a:lnTo>
                        <a:pt x="18" y="163"/>
                      </a:lnTo>
                      <a:lnTo>
                        <a:pt x="26" y="98"/>
                      </a:lnTo>
                      <a:lnTo>
                        <a:pt x="43" y="49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858080" y="1554120"/>
                  <a:ext cx="419040" cy="334080"/>
                </a:xfrm>
                <a:custGeom>
                  <a:avLst/>
                  <a:gdLst/>
                  <a:ahLst/>
                  <a:rect l="l" t="t" r="r" b="b"/>
                  <a:pathLst>
                    <a:path w="354" h="420">
                      <a:moveTo>
                        <a:pt x="261" y="331"/>
                      </a:moveTo>
                      <a:lnTo>
                        <a:pt x="328" y="340"/>
                      </a:lnTo>
                      <a:lnTo>
                        <a:pt x="354" y="350"/>
                      </a:lnTo>
                      <a:lnTo>
                        <a:pt x="349" y="377"/>
                      </a:lnTo>
                      <a:lnTo>
                        <a:pt x="316" y="419"/>
                      </a:lnTo>
                      <a:lnTo>
                        <a:pt x="275" y="420"/>
                      </a:lnTo>
                      <a:lnTo>
                        <a:pt x="201" y="395"/>
                      </a:lnTo>
                      <a:lnTo>
                        <a:pt x="159" y="381"/>
                      </a:lnTo>
                      <a:lnTo>
                        <a:pt x="144" y="358"/>
                      </a:lnTo>
                      <a:lnTo>
                        <a:pt x="127" y="325"/>
                      </a:lnTo>
                      <a:lnTo>
                        <a:pt x="119" y="271"/>
                      </a:lnTo>
                      <a:lnTo>
                        <a:pt x="110" y="205"/>
                      </a:lnTo>
                      <a:lnTo>
                        <a:pt x="104" y="162"/>
                      </a:lnTo>
                      <a:lnTo>
                        <a:pt x="101" y="130"/>
                      </a:lnTo>
                      <a:lnTo>
                        <a:pt x="92" y="106"/>
                      </a:lnTo>
                      <a:lnTo>
                        <a:pt x="63" y="112"/>
                      </a:lnTo>
                      <a:lnTo>
                        <a:pt x="37" y="103"/>
                      </a:lnTo>
                      <a:lnTo>
                        <a:pt x="4" y="75"/>
                      </a:lnTo>
                      <a:lnTo>
                        <a:pt x="0" y="43"/>
                      </a:lnTo>
                      <a:lnTo>
                        <a:pt x="11" y="22"/>
                      </a:lnTo>
                      <a:lnTo>
                        <a:pt x="38" y="25"/>
                      </a:lnTo>
                      <a:lnTo>
                        <a:pt x="62" y="36"/>
                      </a:lnTo>
                      <a:lnTo>
                        <a:pt x="76" y="5"/>
                      </a:lnTo>
                      <a:lnTo>
                        <a:pt x="89" y="0"/>
                      </a:lnTo>
                      <a:lnTo>
                        <a:pt x="97" y="5"/>
                      </a:lnTo>
                      <a:lnTo>
                        <a:pt x="96" y="48"/>
                      </a:lnTo>
                      <a:lnTo>
                        <a:pt x="105" y="75"/>
                      </a:lnTo>
                      <a:lnTo>
                        <a:pt x="122" y="106"/>
                      </a:lnTo>
                      <a:lnTo>
                        <a:pt x="134" y="147"/>
                      </a:lnTo>
                      <a:lnTo>
                        <a:pt x="142" y="209"/>
                      </a:lnTo>
                      <a:lnTo>
                        <a:pt x="155" y="271"/>
                      </a:lnTo>
                      <a:lnTo>
                        <a:pt x="180" y="314"/>
                      </a:lnTo>
                      <a:lnTo>
                        <a:pt x="205" y="328"/>
                      </a:lnTo>
                      <a:lnTo>
                        <a:pt x="248" y="331"/>
                      </a:lnTo>
                      <a:lnTo>
                        <a:pt x="261" y="331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321760" y="1830960"/>
                  <a:ext cx="212040" cy="338400"/>
                </a:xfrm>
                <a:custGeom>
                  <a:avLst/>
                  <a:gdLst/>
                  <a:ahLst/>
                  <a:rect l="l" t="t" r="r" b="b"/>
                  <a:pathLst>
                    <a:path w="178" h="426">
                      <a:moveTo>
                        <a:pt x="0" y="0"/>
                      </a:moveTo>
                      <a:lnTo>
                        <a:pt x="31" y="0"/>
                      </a:lnTo>
                      <a:lnTo>
                        <a:pt x="60" y="23"/>
                      </a:lnTo>
                      <a:lnTo>
                        <a:pt x="90" y="79"/>
                      </a:lnTo>
                      <a:lnTo>
                        <a:pt x="125" y="129"/>
                      </a:lnTo>
                      <a:lnTo>
                        <a:pt x="164" y="184"/>
                      </a:lnTo>
                      <a:lnTo>
                        <a:pt x="178" y="215"/>
                      </a:lnTo>
                      <a:lnTo>
                        <a:pt x="178" y="239"/>
                      </a:lnTo>
                      <a:lnTo>
                        <a:pt x="168" y="254"/>
                      </a:lnTo>
                      <a:lnTo>
                        <a:pt x="126" y="274"/>
                      </a:lnTo>
                      <a:lnTo>
                        <a:pt x="87" y="296"/>
                      </a:lnTo>
                      <a:lnTo>
                        <a:pt x="66" y="323"/>
                      </a:lnTo>
                      <a:lnTo>
                        <a:pt x="70" y="346"/>
                      </a:lnTo>
                      <a:lnTo>
                        <a:pt x="95" y="361"/>
                      </a:lnTo>
                      <a:lnTo>
                        <a:pt x="133" y="383"/>
                      </a:lnTo>
                      <a:lnTo>
                        <a:pt x="147" y="390"/>
                      </a:lnTo>
                      <a:lnTo>
                        <a:pt x="153" y="416"/>
                      </a:lnTo>
                      <a:lnTo>
                        <a:pt x="130" y="426"/>
                      </a:lnTo>
                      <a:lnTo>
                        <a:pt x="91" y="390"/>
                      </a:lnTo>
                      <a:lnTo>
                        <a:pt x="51" y="367"/>
                      </a:lnTo>
                      <a:lnTo>
                        <a:pt x="29" y="335"/>
                      </a:lnTo>
                      <a:lnTo>
                        <a:pt x="42" y="308"/>
                      </a:lnTo>
                      <a:lnTo>
                        <a:pt x="64" y="284"/>
                      </a:lnTo>
                      <a:lnTo>
                        <a:pt x="91" y="254"/>
                      </a:lnTo>
                      <a:lnTo>
                        <a:pt x="122" y="233"/>
                      </a:lnTo>
                      <a:lnTo>
                        <a:pt x="139" y="217"/>
                      </a:lnTo>
                      <a:lnTo>
                        <a:pt x="139" y="211"/>
                      </a:lnTo>
                      <a:lnTo>
                        <a:pt x="118" y="187"/>
                      </a:lnTo>
                      <a:lnTo>
                        <a:pt x="81" y="153"/>
                      </a:lnTo>
                      <a:lnTo>
                        <a:pt x="48" y="123"/>
                      </a:lnTo>
                      <a:lnTo>
                        <a:pt x="25" y="85"/>
                      </a:lnTo>
                      <a:lnTo>
                        <a:pt x="9" y="60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250480" y="2104920"/>
                  <a:ext cx="126360" cy="445320"/>
                </a:xfrm>
                <a:custGeom>
                  <a:avLst/>
                  <a:gdLst/>
                  <a:ahLst/>
                  <a:rect l="l" t="t" r="r" b="b"/>
                  <a:pathLst>
                    <a:path w="107" h="561">
                      <a:moveTo>
                        <a:pt x="48" y="17"/>
                      </a:moveTo>
                      <a:lnTo>
                        <a:pt x="72" y="0"/>
                      </a:lnTo>
                      <a:lnTo>
                        <a:pt x="88" y="17"/>
                      </a:lnTo>
                      <a:lnTo>
                        <a:pt x="98" y="49"/>
                      </a:lnTo>
                      <a:lnTo>
                        <a:pt x="106" y="121"/>
                      </a:lnTo>
                      <a:lnTo>
                        <a:pt x="90" y="204"/>
                      </a:lnTo>
                      <a:lnTo>
                        <a:pt x="85" y="277"/>
                      </a:lnTo>
                      <a:lnTo>
                        <a:pt x="92" y="389"/>
                      </a:lnTo>
                      <a:lnTo>
                        <a:pt x="98" y="431"/>
                      </a:lnTo>
                      <a:lnTo>
                        <a:pt x="107" y="461"/>
                      </a:lnTo>
                      <a:lnTo>
                        <a:pt x="107" y="485"/>
                      </a:lnTo>
                      <a:lnTo>
                        <a:pt x="90" y="494"/>
                      </a:lnTo>
                      <a:lnTo>
                        <a:pt x="71" y="516"/>
                      </a:lnTo>
                      <a:lnTo>
                        <a:pt x="45" y="555"/>
                      </a:lnTo>
                      <a:lnTo>
                        <a:pt x="32" y="561"/>
                      </a:lnTo>
                      <a:lnTo>
                        <a:pt x="3" y="560"/>
                      </a:lnTo>
                      <a:lnTo>
                        <a:pt x="0" y="534"/>
                      </a:lnTo>
                      <a:lnTo>
                        <a:pt x="7" y="516"/>
                      </a:lnTo>
                      <a:lnTo>
                        <a:pt x="45" y="488"/>
                      </a:lnTo>
                      <a:lnTo>
                        <a:pt x="71" y="456"/>
                      </a:lnTo>
                      <a:lnTo>
                        <a:pt x="76" y="417"/>
                      </a:lnTo>
                      <a:lnTo>
                        <a:pt x="67" y="356"/>
                      </a:lnTo>
                      <a:lnTo>
                        <a:pt x="58" y="307"/>
                      </a:lnTo>
                      <a:lnTo>
                        <a:pt x="49" y="232"/>
                      </a:lnTo>
                      <a:lnTo>
                        <a:pt x="48" y="166"/>
                      </a:lnTo>
                      <a:lnTo>
                        <a:pt x="49" y="99"/>
                      </a:lnTo>
                      <a:lnTo>
                        <a:pt x="48" y="48"/>
                      </a:lnTo>
                      <a:lnTo>
                        <a:pt x="48" y="17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107920" y="2104920"/>
                  <a:ext cx="171000" cy="433440"/>
                </a:xfrm>
                <a:custGeom>
                  <a:avLst/>
                  <a:gdLst/>
                  <a:ahLst/>
                  <a:rect l="l" t="t" r="r" b="b"/>
                  <a:pathLst>
                    <a:path w="144" h="548">
                      <a:moveTo>
                        <a:pt x="97" y="11"/>
                      </a:moveTo>
                      <a:lnTo>
                        <a:pt x="122" y="0"/>
                      </a:lnTo>
                      <a:lnTo>
                        <a:pt x="136" y="18"/>
                      </a:lnTo>
                      <a:lnTo>
                        <a:pt x="144" y="54"/>
                      </a:lnTo>
                      <a:lnTo>
                        <a:pt x="144" y="127"/>
                      </a:lnTo>
                      <a:lnTo>
                        <a:pt x="119" y="204"/>
                      </a:lnTo>
                      <a:lnTo>
                        <a:pt x="107" y="277"/>
                      </a:lnTo>
                      <a:lnTo>
                        <a:pt x="105" y="388"/>
                      </a:lnTo>
                      <a:lnTo>
                        <a:pt x="106" y="431"/>
                      </a:lnTo>
                      <a:lnTo>
                        <a:pt x="112" y="461"/>
                      </a:lnTo>
                      <a:lnTo>
                        <a:pt x="109" y="486"/>
                      </a:lnTo>
                      <a:lnTo>
                        <a:pt x="91" y="491"/>
                      </a:lnTo>
                      <a:lnTo>
                        <a:pt x="69" y="510"/>
                      </a:lnTo>
                      <a:lnTo>
                        <a:pt x="40" y="543"/>
                      </a:lnTo>
                      <a:lnTo>
                        <a:pt x="27" y="548"/>
                      </a:lnTo>
                      <a:lnTo>
                        <a:pt x="0" y="540"/>
                      </a:lnTo>
                      <a:lnTo>
                        <a:pt x="0" y="515"/>
                      </a:lnTo>
                      <a:lnTo>
                        <a:pt x="9" y="498"/>
                      </a:lnTo>
                      <a:lnTo>
                        <a:pt x="48" y="476"/>
                      </a:lnTo>
                      <a:lnTo>
                        <a:pt x="75" y="452"/>
                      </a:lnTo>
                      <a:lnTo>
                        <a:pt x="85" y="413"/>
                      </a:lnTo>
                      <a:lnTo>
                        <a:pt x="82" y="350"/>
                      </a:lnTo>
                      <a:lnTo>
                        <a:pt x="78" y="299"/>
                      </a:lnTo>
                      <a:lnTo>
                        <a:pt x="76" y="226"/>
                      </a:lnTo>
                      <a:lnTo>
                        <a:pt x="82" y="160"/>
                      </a:lnTo>
                      <a:lnTo>
                        <a:pt x="89" y="94"/>
                      </a:lnTo>
                      <a:lnTo>
                        <a:pt x="95" y="40"/>
                      </a:lnTo>
                      <a:lnTo>
                        <a:pt x="97" y="11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7900920" y="2244600"/>
                <a:ext cx="190080" cy="155520"/>
                <a:chOff x="7900920" y="2244600"/>
                <a:chExt cx="190080" cy="1555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900920" y="2291400"/>
                  <a:ext cx="111240" cy="98640"/>
                </a:xfrm>
                <a:custGeom>
                  <a:avLst/>
                  <a:gdLst/>
                  <a:ahLst/>
                  <a:rect l="l" t="t" r="r" b="b"/>
                  <a:pathLst>
                    <a:path w="95" h="127">
                      <a:moveTo>
                        <a:pt x="80" y="0"/>
                      </a:moveTo>
                      <a:lnTo>
                        <a:pt x="18" y="18"/>
                      </a:lnTo>
                      <a:lnTo>
                        <a:pt x="36" y="99"/>
                      </a:lnTo>
                      <a:lnTo>
                        <a:pt x="95" y="73"/>
                      </a:lnTo>
                      <a:lnTo>
                        <a:pt x="95" y="100"/>
                      </a:lnTo>
                      <a:lnTo>
                        <a:pt x="25" y="127"/>
                      </a:lnTo>
                      <a:lnTo>
                        <a:pt x="0" y="10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953120" y="2244600"/>
                  <a:ext cx="137880" cy="155520"/>
                </a:xfrm>
                <a:custGeom>
                  <a:avLst/>
                  <a:gdLst/>
                  <a:ahLst/>
                  <a:rect l="l" t="t" r="r" b="b"/>
                  <a:pathLst>
                    <a:path w="116" h="200">
                      <a:moveTo>
                        <a:pt x="0" y="71"/>
                      </a:moveTo>
                      <a:lnTo>
                        <a:pt x="1" y="19"/>
                      </a:lnTo>
                      <a:lnTo>
                        <a:pt x="27" y="0"/>
                      </a:lnTo>
                      <a:lnTo>
                        <a:pt x="59" y="0"/>
                      </a:lnTo>
                      <a:lnTo>
                        <a:pt x="86" y="21"/>
                      </a:lnTo>
                      <a:lnTo>
                        <a:pt x="110" y="64"/>
                      </a:lnTo>
                      <a:lnTo>
                        <a:pt x="116" y="115"/>
                      </a:lnTo>
                      <a:lnTo>
                        <a:pt x="103" y="169"/>
                      </a:lnTo>
                      <a:lnTo>
                        <a:pt x="72" y="191"/>
                      </a:lnTo>
                      <a:lnTo>
                        <a:pt x="44" y="200"/>
                      </a:lnTo>
                      <a:lnTo>
                        <a:pt x="36" y="155"/>
                      </a:lnTo>
                      <a:lnTo>
                        <a:pt x="49" y="143"/>
                      </a:lnTo>
                      <a:lnTo>
                        <a:pt x="53" y="185"/>
                      </a:lnTo>
                      <a:lnTo>
                        <a:pt x="80" y="166"/>
                      </a:lnTo>
                      <a:lnTo>
                        <a:pt x="102" y="140"/>
                      </a:lnTo>
                      <a:lnTo>
                        <a:pt x="106" y="104"/>
                      </a:lnTo>
                      <a:lnTo>
                        <a:pt x="93" y="65"/>
                      </a:lnTo>
                      <a:lnTo>
                        <a:pt x="76" y="39"/>
                      </a:lnTo>
                      <a:lnTo>
                        <a:pt x="57" y="21"/>
                      </a:lnTo>
                      <a:lnTo>
                        <a:pt x="37" y="21"/>
                      </a:lnTo>
                      <a:lnTo>
                        <a:pt x="22" y="31"/>
                      </a:lnTo>
                      <a:lnTo>
                        <a:pt x="14" y="45"/>
                      </a:lnTo>
                      <a:lnTo>
                        <a:pt x="14" y="76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7872480" y="1092240"/>
                <a:ext cx="245160" cy="529200"/>
                <a:chOff x="7872480" y="1092240"/>
                <a:chExt cx="245160" cy="5292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8077320" y="1092240"/>
                  <a:ext cx="40320" cy="446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058600" y="1213920"/>
                  <a:ext cx="37800" cy="446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989120" y="1287360"/>
                  <a:ext cx="38160" cy="4320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056440" y="1347480"/>
                  <a:ext cx="37800" cy="4248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" name=""/>
                <p:cNvGrpSpPr/>
                <p:nvPr/>
              </p:nvGrpSpPr>
              <p:grpSpPr>
                <a:xfrm>
                  <a:off x="7872480" y="1411920"/>
                  <a:ext cx="192600" cy="209520"/>
                  <a:chOff x="7872480" y="1411920"/>
                  <a:chExt cx="192600" cy="20952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7874640" y="1411920"/>
                    <a:ext cx="19044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266">
                        <a:moveTo>
                          <a:pt x="24" y="20"/>
                        </a:moveTo>
                        <a:lnTo>
                          <a:pt x="53" y="14"/>
                        </a:lnTo>
                        <a:lnTo>
                          <a:pt x="84" y="20"/>
                        </a:lnTo>
                        <a:lnTo>
                          <a:pt x="115" y="32"/>
                        </a:lnTo>
                        <a:lnTo>
                          <a:pt x="136" y="58"/>
                        </a:lnTo>
                        <a:lnTo>
                          <a:pt x="144" y="77"/>
                        </a:lnTo>
                        <a:lnTo>
                          <a:pt x="144" y="100"/>
                        </a:lnTo>
                        <a:lnTo>
                          <a:pt x="130" y="127"/>
                        </a:lnTo>
                        <a:lnTo>
                          <a:pt x="110" y="151"/>
                        </a:lnTo>
                        <a:lnTo>
                          <a:pt x="83" y="157"/>
                        </a:lnTo>
                        <a:lnTo>
                          <a:pt x="59" y="163"/>
                        </a:lnTo>
                        <a:lnTo>
                          <a:pt x="48" y="170"/>
                        </a:lnTo>
                        <a:lnTo>
                          <a:pt x="36" y="178"/>
                        </a:lnTo>
                        <a:lnTo>
                          <a:pt x="32" y="219"/>
                        </a:lnTo>
                        <a:lnTo>
                          <a:pt x="31" y="264"/>
                        </a:lnTo>
                        <a:lnTo>
                          <a:pt x="45" y="266"/>
                        </a:lnTo>
                        <a:lnTo>
                          <a:pt x="54" y="201"/>
                        </a:lnTo>
                        <a:lnTo>
                          <a:pt x="70" y="182"/>
                        </a:lnTo>
                        <a:lnTo>
                          <a:pt x="113" y="176"/>
                        </a:lnTo>
                        <a:lnTo>
                          <a:pt x="135" y="160"/>
                        </a:lnTo>
                        <a:lnTo>
                          <a:pt x="150" y="139"/>
                        </a:lnTo>
                        <a:lnTo>
                          <a:pt x="161" y="106"/>
                        </a:lnTo>
                        <a:lnTo>
                          <a:pt x="158" y="71"/>
                        </a:lnTo>
                        <a:lnTo>
                          <a:pt x="148" y="43"/>
                        </a:lnTo>
                        <a:lnTo>
                          <a:pt x="127" y="25"/>
                        </a:lnTo>
                        <a:lnTo>
                          <a:pt x="95" y="1"/>
                        </a:lnTo>
                        <a:lnTo>
                          <a:pt x="63" y="0"/>
                        </a:lnTo>
                        <a:lnTo>
                          <a:pt x="32" y="0"/>
                        </a:lnTo>
                        <a:lnTo>
                          <a:pt x="7" y="11"/>
                        </a:lnTo>
                        <a:lnTo>
                          <a:pt x="2" y="32"/>
                        </a:lnTo>
                        <a:lnTo>
                          <a:pt x="0" y="58"/>
                        </a:lnTo>
                        <a:lnTo>
                          <a:pt x="14" y="71"/>
                        </a:lnTo>
                        <a:lnTo>
                          <a:pt x="35" y="88"/>
                        </a:lnTo>
                        <a:lnTo>
                          <a:pt x="61" y="100"/>
                        </a:lnTo>
                        <a:lnTo>
                          <a:pt x="91" y="100"/>
                        </a:lnTo>
                        <a:lnTo>
                          <a:pt x="118" y="103"/>
                        </a:lnTo>
                        <a:lnTo>
                          <a:pt x="127" y="94"/>
                        </a:lnTo>
                        <a:lnTo>
                          <a:pt x="127" y="83"/>
                        </a:lnTo>
                        <a:lnTo>
                          <a:pt x="102" y="88"/>
                        </a:lnTo>
                        <a:lnTo>
                          <a:pt x="71" y="82"/>
                        </a:lnTo>
                        <a:lnTo>
                          <a:pt x="45" y="74"/>
                        </a:lnTo>
                        <a:lnTo>
                          <a:pt x="28" y="62"/>
                        </a:lnTo>
                        <a:lnTo>
                          <a:pt x="15" y="50"/>
                        </a:lnTo>
                        <a:lnTo>
                          <a:pt x="24" y="20"/>
                        </a:lnTo>
                        <a:close/>
                      </a:path>
                    </a:pathLst>
                  </a:custGeom>
                  <a:solidFill>
                    <a:srgbClr val="ff99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872480" y="1444680"/>
                    <a:ext cx="6912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61">
                        <a:moveTo>
                          <a:pt x="6" y="0"/>
                        </a:moveTo>
                        <a:lnTo>
                          <a:pt x="0" y="43"/>
                        </a:lnTo>
                        <a:lnTo>
                          <a:pt x="9" y="82"/>
                        </a:lnTo>
                        <a:lnTo>
                          <a:pt x="22" y="118"/>
                        </a:lnTo>
                        <a:lnTo>
                          <a:pt x="41" y="144"/>
                        </a:lnTo>
                        <a:lnTo>
                          <a:pt x="42" y="161"/>
                        </a:lnTo>
                        <a:lnTo>
                          <a:pt x="60" y="135"/>
                        </a:lnTo>
                        <a:lnTo>
                          <a:pt x="38" y="99"/>
                        </a:lnTo>
                        <a:lnTo>
                          <a:pt x="22" y="63"/>
                        </a:lnTo>
                        <a:lnTo>
                          <a:pt x="19" y="24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99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7" name=""/>
            <p:cNvGrpSpPr/>
            <p:nvPr/>
          </p:nvGrpSpPr>
          <p:grpSpPr>
            <a:xfrm>
              <a:off x="7016760" y="990720"/>
              <a:ext cx="816120" cy="1615680"/>
              <a:chOff x="7016760" y="990720"/>
              <a:chExt cx="816120" cy="161568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7350120" y="990720"/>
                <a:ext cx="197640" cy="489600"/>
                <a:chOff x="7350120" y="990720"/>
                <a:chExt cx="197640" cy="4896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405200" y="1178280"/>
                  <a:ext cx="37800" cy="428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371720" y="1098000"/>
                  <a:ext cx="37800" cy="446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385760" y="990720"/>
                  <a:ext cx="38160" cy="4248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7350120" y="1262160"/>
                  <a:ext cx="197640" cy="218160"/>
                  <a:chOff x="7350120" y="1262160"/>
                  <a:chExt cx="197640" cy="21816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7350120" y="1262160"/>
                    <a:ext cx="19764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76">
                        <a:moveTo>
                          <a:pt x="19" y="68"/>
                        </a:moveTo>
                        <a:lnTo>
                          <a:pt x="42" y="43"/>
                        </a:lnTo>
                        <a:lnTo>
                          <a:pt x="71" y="26"/>
                        </a:lnTo>
                        <a:lnTo>
                          <a:pt x="102" y="16"/>
                        </a:lnTo>
                        <a:lnTo>
                          <a:pt x="130" y="22"/>
                        </a:lnTo>
                        <a:lnTo>
                          <a:pt x="143" y="32"/>
                        </a:lnTo>
                        <a:lnTo>
                          <a:pt x="151" y="53"/>
                        </a:lnTo>
                        <a:lnTo>
                          <a:pt x="147" y="88"/>
                        </a:lnTo>
                        <a:lnTo>
                          <a:pt x="137" y="121"/>
                        </a:lnTo>
                        <a:lnTo>
                          <a:pt x="118" y="146"/>
                        </a:lnTo>
                        <a:lnTo>
                          <a:pt x="97" y="170"/>
                        </a:lnTo>
                        <a:lnTo>
                          <a:pt x="91" y="182"/>
                        </a:lnTo>
                        <a:lnTo>
                          <a:pt x="84" y="197"/>
                        </a:lnTo>
                        <a:lnTo>
                          <a:pt x="92" y="239"/>
                        </a:lnTo>
                        <a:lnTo>
                          <a:pt x="108" y="276"/>
                        </a:lnTo>
                        <a:lnTo>
                          <a:pt x="120" y="267"/>
                        </a:lnTo>
                        <a:lnTo>
                          <a:pt x="105" y="204"/>
                        </a:lnTo>
                        <a:lnTo>
                          <a:pt x="115" y="178"/>
                        </a:lnTo>
                        <a:lnTo>
                          <a:pt x="149" y="140"/>
                        </a:lnTo>
                        <a:lnTo>
                          <a:pt x="162" y="110"/>
                        </a:lnTo>
                        <a:lnTo>
                          <a:pt x="168" y="83"/>
                        </a:lnTo>
                        <a:lnTo>
                          <a:pt x="168" y="47"/>
                        </a:lnTo>
                        <a:lnTo>
                          <a:pt x="153" y="19"/>
                        </a:lnTo>
                        <a:lnTo>
                          <a:pt x="136" y="1"/>
                        </a:lnTo>
                        <a:lnTo>
                          <a:pt x="112" y="0"/>
                        </a:lnTo>
                        <a:lnTo>
                          <a:pt x="76" y="1"/>
                        </a:lnTo>
                        <a:lnTo>
                          <a:pt x="45" y="22"/>
                        </a:lnTo>
                        <a:lnTo>
                          <a:pt x="19" y="46"/>
                        </a:lnTo>
                        <a:lnTo>
                          <a:pt x="0" y="73"/>
                        </a:lnTo>
                        <a:lnTo>
                          <a:pt x="4" y="95"/>
                        </a:lnTo>
                        <a:lnTo>
                          <a:pt x="12" y="116"/>
                        </a:lnTo>
                        <a:lnTo>
                          <a:pt x="28" y="121"/>
                        </a:lnTo>
                        <a:lnTo>
                          <a:pt x="52" y="121"/>
                        </a:lnTo>
                        <a:lnTo>
                          <a:pt x="80" y="113"/>
                        </a:lnTo>
                        <a:lnTo>
                          <a:pt x="105" y="92"/>
                        </a:lnTo>
                        <a:lnTo>
                          <a:pt x="129" y="74"/>
                        </a:lnTo>
                        <a:lnTo>
                          <a:pt x="134" y="61"/>
                        </a:lnTo>
                        <a:lnTo>
                          <a:pt x="132" y="52"/>
                        </a:lnTo>
                        <a:lnTo>
                          <a:pt x="110" y="73"/>
                        </a:lnTo>
                        <a:lnTo>
                          <a:pt x="81" y="88"/>
                        </a:lnTo>
                        <a:lnTo>
                          <a:pt x="56" y="100"/>
                        </a:lnTo>
                        <a:lnTo>
                          <a:pt x="36" y="103"/>
                        </a:lnTo>
                        <a:lnTo>
                          <a:pt x="22" y="100"/>
                        </a:lnTo>
                        <a:lnTo>
                          <a:pt x="19" y="68"/>
                        </a:lnTo>
                        <a:close/>
                      </a:path>
                    </a:pathLst>
                  </a:custGeom>
                  <a:solidFill>
                    <a:srgbClr val="ff99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7359840" y="1342800"/>
                    <a:ext cx="10692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120">
                        <a:moveTo>
                          <a:pt x="0" y="0"/>
                        </a:moveTo>
                        <a:lnTo>
                          <a:pt x="11" y="44"/>
                        </a:lnTo>
                        <a:lnTo>
                          <a:pt x="30" y="72"/>
                        </a:lnTo>
                        <a:lnTo>
                          <a:pt x="53" y="93"/>
                        </a:lnTo>
                        <a:lnTo>
                          <a:pt x="78" y="106"/>
                        </a:lnTo>
                        <a:lnTo>
                          <a:pt x="86" y="120"/>
                        </a:lnTo>
                        <a:lnTo>
                          <a:pt x="90" y="84"/>
                        </a:lnTo>
                        <a:lnTo>
                          <a:pt x="61" y="66"/>
                        </a:lnTo>
                        <a:lnTo>
                          <a:pt x="35" y="45"/>
                        </a:lnTo>
                        <a:lnTo>
                          <a:pt x="20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5" name=""/>
              <p:cNvSpPr/>
              <p:nvPr/>
            </p:nvSpPr>
            <p:spPr>
              <a:xfrm>
                <a:off x="7550280" y="1706400"/>
                <a:ext cx="282600" cy="738360"/>
              </a:xfrm>
              <a:custGeom>
                <a:avLst/>
                <a:gdLst/>
                <a:ahLst/>
                <a:rect l="l" t="t" r="r" b="b"/>
                <a:pathLst>
                  <a:path w="239" h="927">
                    <a:moveTo>
                      <a:pt x="163" y="67"/>
                    </a:moveTo>
                    <a:lnTo>
                      <a:pt x="158" y="299"/>
                    </a:lnTo>
                    <a:lnTo>
                      <a:pt x="167" y="334"/>
                    </a:lnTo>
                    <a:lnTo>
                      <a:pt x="206" y="414"/>
                    </a:lnTo>
                    <a:lnTo>
                      <a:pt x="228" y="453"/>
                    </a:lnTo>
                    <a:lnTo>
                      <a:pt x="236" y="495"/>
                    </a:lnTo>
                    <a:lnTo>
                      <a:pt x="239" y="562"/>
                    </a:lnTo>
                    <a:lnTo>
                      <a:pt x="232" y="757"/>
                    </a:lnTo>
                    <a:lnTo>
                      <a:pt x="226" y="881"/>
                    </a:lnTo>
                    <a:lnTo>
                      <a:pt x="219" y="911"/>
                    </a:lnTo>
                    <a:lnTo>
                      <a:pt x="192" y="927"/>
                    </a:lnTo>
                    <a:lnTo>
                      <a:pt x="134" y="915"/>
                    </a:lnTo>
                    <a:lnTo>
                      <a:pt x="80" y="917"/>
                    </a:lnTo>
                    <a:lnTo>
                      <a:pt x="55" y="917"/>
                    </a:lnTo>
                    <a:lnTo>
                      <a:pt x="36" y="887"/>
                    </a:lnTo>
                    <a:lnTo>
                      <a:pt x="26" y="844"/>
                    </a:lnTo>
                    <a:lnTo>
                      <a:pt x="4" y="660"/>
                    </a:lnTo>
                    <a:lnTo>
                      <a:pt x="0" y="482"/>
                    </a:lnTo>
                    <a:lnTo>
                      <a:pt x="8" y="416"/>
                    </a:lnTo>
                    <a:lnTo>
                      <a:pt x="26" y="377"/>
                    </a:lnTo>
                    <a:lnTo>
                      <a:pt x="55" y="316"/>
                    </a:lnTo>
                    <a:lnTo>
                      <a:pt x="68" y="274"/>
                    </a:lnTo>
                    <a:lnTo>
                      <a:pt x="68" y="202"/>
                    </a:lnTo>
                    <a:lnTo>
                      <a:pt x="68" y="57"/>
                    </a:lnTo>
                    <a:lnTo>
                      <a:pt x="78" y="63"/>
                    </a:lnTo>
                    <a:lnTo>
                      <a:pt x="94" y="97"/>
                    </a:lnTo>
                    <a:lnTo>
                      <a:pt x="133" y="88"/>
                    </a:lnTo>
                    <a:lnTo>
                      <a:pt x="149" y="82"/>
                    </a:lnTo>
                    <a:lnTo>
                      <a:pt x="137" y="108"/>
                    </a:lnTo>
                    <a:lnTo>
                      <a:pt x="111" y="120"/>
                    </a:lnTo>
                    <a:lnTo>
                      <a:pt x="83" y="117"/>
                    </a:lnTo>
                    <a:lnTo>
                      <a:pt x="78" y="94"/>
                    </a:lnTo>
                    <a:lnTo>
                      <a:pt x="78" y="236"/>
                    </a:lnTo>
                    <a:lnTo>
                      <a:pt x="83" y="299"/>
                    </a:lnTo>
                    <a:lnTo>
                      <a:pt x="72" y="334"/>
                    </a:lnTo>
                    <a:lnTo>
                      <a:pt x="47" y="383"/>
                    </a:lnTo>
                    <a:lnTo>
                      <a:pt x="26" y="420"/>
                    </a:lnTo>
                    <a:lnTo>
                      <a:pt x="33" y="446"/>
                    </a:lnTo>
                    <a:lnTo>
                      <a:pt x="68" y="471"/>
                    </a:lnTo>
                    <a:lnTo>
                      <a:pt x="111" y="482"/>
                    </a:lnTo>
                    <a:lnTo>
                      <a:pt x="155" y="471"/>
                    </a:lnTo>
                    <a:lnTo>
                      <a:pt x="189" y="446"/>
                    </a:lnTo>
                    <a:lnTo>
                      <a:pt x="184" y="477"/>
                    </a:lnTo>
                    <a:lnTo>
                      <a:pt x="137" y="495"/>
                    </a:lnTo>
                    <a:lnTo>
                      <a:pt x="53" y="489"/>
                    </a:lnTo>
                    <a:lnTo>
                      <a:pt x="18" y="462"/>
                    </a:lnTo>
                    <a:lnTo>
                      <a:pt x="18" y="550"/>
                    </a:lnTo>
                    <a:lnTo>
                      <a:pt x="22" y="676"/>
                    </a:lnTo>
                    <a:lnTo>
                      <a:pt x="36" y="721"/>
                    </a:lnTo>
                    <a:lnTo>
                      <a:pt x="106" y="734"/>
                    </a:lnTo>
                    <a:lnTo>
                      <a:pt x="180" y="734"/>
                    </a:lnTo>
                    <a:lnTo>
                      <a:pt x="217" y="715"/>
                    </a:lnTo>
                    <a:lnTo>
                      <a:pt x="193" y="743"/>
                    </a:lnTo>
                    <a:lnTo>
                      <a:pt x="119" y="758"/>
                    </a:lnTo>
                    <a:lnTo>
                      <a:pt x="26" y="749"/>
                    </a:lnTo>
                    <a:lnTo>
                      <a:pt x="40" y="814"/>
                    </a:lnTo>
                    <a:lnTo>
                      <a:pt x="51" y="862"/>
                    </a:lnTo>
                    <a:lnTo>
                      <a:pt x="65" y="898"/>
                    </a:lnTo>
                    <a:lnTo>
                      <a:pt x="100" y="893"/>
                    </a:lnTo>
                    <a:lnTo>
                      <a:pt x="127" y="868"/>
                    </a:lnTo>
                    <a:lnTo>
                      <a:pt x="146" y="862"/>
                    </a:lnTo>
                    <a:lnTo>
                      <a:pt x="172" y="884"/>
                    </a:lnTo>
                    <a:lnTo>
                      <a:pt x="188" y="898"/>
                    </a:lnTo>
                    <a:lnTo>
                      <a:pt x="205" y="890"/>
                    </a:lnTo>
                    <a:lnTo>
                      <a:pt x="217" y="848"/>
                    </a:lnTo>
                    <a:lnTo>
                      <a:pt x="217" y="764"/>
                    </a:lnTo>
                    <a:lnTo>
                      <a:pt x="219" y="696"/>
                    </a:lnTo>
                    <a:lnTo>
                      <a:pt x="221" y="606"/>
                    </a:lnTo>
                    <a:lnTo>
                      <a:pt x="223" y="501"/>
                    </a:lnTo>
                    <a:lnTo>
                      <a:pt x="214" y="462"/>
                    </a:lnTo>
                    <a:lnTo>
                      <a:pt x="192" y="414"/>
                    </a:lnTo>
                    <a:lnTo>
                      <a:pt x="162" y="365"/>
                    </a:lnTo>
                    <a:lnTo>
                      <a:pt x="141" y="305"/>
                    </a:lnTo>
                    <a:lnTo>
                      <a:pt x="142" y="254"/>
                    </a:lnTo>
                    <a:lnTo>
                      <a:pt x="149" y="169"/>
                    </a:lnTo>
                    <a:lnTo>
                      <a:pt x="146" y="67"/>
                    </a:lnTo>
                    <a:lnTo>
                      <a:pt x="138" y="49"/>
                    </a:lnTo>
                    <a:lnTo>
                      <a:pt x="116" y="33"/>
                    </a:lnTo>
                    <a:lnTo>
                      <a:pt x="90" y="30"/>
                    </a:lnTo>
                    <a:lnTo>
                      <a:pt x="73" y="51"/>
                    </a:lnTo>
                    <a:lnTo>
                      <a:pt x="64" y="49"/>
                    </a:lnTo>
                    <a:lnTo>
                      <a:pt x="78" y="18"/>
                    </a:lnTo>
                    <a:lnTo>
                      <a:pt x="104" y="0"/>
                    </a:lnTo>
                    <a:lnTo>
                      <a:pt x="127" y="6"/>
                    </a:lnTo>
                    <a:lnTo>
                      <a:pt x="146" y="24"/>
                    </a:lnTo>
                    <a:lnTo>
                      <a:pt x="163" y="67"/>
                    </a:lnTo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7016760" y="1440000"/>
                <a:ext cx="518760" cy="1166400"/>
                <a:chOff x="7016760" y="1440000"/>
                <a:chExt cx="518760" cy="11664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7016760" y="1515960"/>
                  <a:ext cx="245160" cy="212040"/>
                </a:xfrm>
                <a:custGeom>
                  <a:avLst/>
                  <a:gdLst/>
                  <a:ahLst/>
                  <a:rect l="l" t="t" r="r" b="b"/>
                  <a:pathLst>
                    <a:path w="208" h="266">
                      <a:moveTo>
                        <a:pt x="133" y="70"/>
                      </a:moveTo>
                      <a:lnTo>
                        <a:pt x="109" y="37"/>
                      </a:lnTo>
                      <a:lnTo>
                        <a:pt x="83" y="10"/>
                      </a:lnTo>
                      <a:lnTo>
                        <a:pt x="61" y="0"/>
                      </a:lnTo>
                      <a:lnTo>
                        <a:pt x="32" y="10"/>
                      </a:lnTo>
                      <a:lnTo>
                        <a:pt x="11" y="31"/>
                      </a:lnTo>
                      <a:lnTo>
                        <a:pt x="5" y="62"/>
                      </a:lnTo>
                      <a:lnTo>
                        <a:pt x="0" y="101"/>
                      </a:lnTo>
                      <a:lnTo>
                        <a:pt x="1" y="133"/>
                      </a:lnTo>
                      <a:lnTo>
                        <a:pt x="9" y="170"/>
                      </a:lnTo>
                      <a:lnTo>
                        <a:pt x="19" y="200"/>
                      </a:lnTo>
                      <a:lnTo>
                        <a:pt x="36" y="232"/>
                      </a:lnTo>
                      <a:lnTo>
                        <a:pt x="58" y="251"/>
                      </a:lnTo>
                      <a:lnTo>
                        <a:pt x="83" y="264"/>
                      </a:lnTo>
                      <a:lnTo>
                        <a:pt x="105" y="266"/>
                      </a:lnTo>
                      <a:lnTo>
                        <a:pt x="122" y="260"/>
                      </a:lnTo>
                      <a:lnTo>
                        <a:pt x="139" y="245"/>
                      </a:lnTo>
                      <a:lnTo>
                        <a:pt x="151" y="221"/>
                      </a:lnTo>
                      <a:lnTo>
                        <a:pt x="152" y="190"/>
                      </a:lnTo>
                      <a:lnTo>
                        <a:pt x="152" y="152"/>
                      </a:lnTo>
                      <a:lnTo>
                        <a:pt x="146" y="124"/>
                      </a:lnTo>
                      <a:lnTo>
                        <a:pt x="146" y="101"/>
                      </a:lnTo>
                      <a:lnTo>
                        <a:pt x="172" y="80"/>
                      </a:lnTo>
                      <a:lnTo>
                        <a:pt x="200" y="67"/>
                      </a:lnTo>
                      <a:lnTo>
                        <a:pt x="208" y="48"/>
                      </a:lnTo>
                      <a:lnTo>
                        <a:pt x="208" y="25"/>
                      </a:lnTo>
                      <a:lnTo>
                        <a:pt x="198" y="25"/>
                      </a:lnTo>
                      <a:lnTo>
                        <a:pt x="182" y="24"/>
                      </a:lnTo>
                      <a:lnTo>
                        <a:pt x="168" y="48"/>
                      </a:lnTo>
                      <a:lnTo>
                        <a:pt x="152" y="62"/>
                      </a:lnTo>
                      <a:lnTo>
                        <a:pt x="133" y="7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06760" y="1742040"/>
                  <a:ext cx="221760" cy="376200"/>
                </a:xfrm>
                <a:custGeom>
                  <a:avLst/>
                  <a:gdLst/>
                  <a:ahLst/>
                  <a:rect l="l" t="t" r="r" b="b"/>
                  <a:pathLst>
                    <a:path w="188" h="475">
                      <a:moveTo>
                        <a:pt x="17" y="9"/>
                      </a:moveTo>
                      <a:lnTo>
                        <a:pt x="50" y="0"/>
                      </a:lnTo>
                      <a:lnTo>
                        <a:pt x="82" y="9"/>
                      </a:lnTo>
                      <a:lnTo>
                        <a:pt x="103" y="32"/>
                      </a:lnTo>
                      <a:lnTo>
                        <a:pt x="134" y="62"/>
                      </a:lnTo>
                      <a:lnTo>
                        <a:pt x="153" y="99"/>
                      </a:lnTo>
                      <a:lnTo>
                        <a:pt x="168" y="148"/>
                      </a:lnTo>
                      <a:lnTo>
                        <a:pt x="180" y="192"/>
                      </a:lnTo>
                      <a:lnTo>
                        <a:pt x="188" y="246"/>
                      </a:lnTo>
                      <a:lnTo>
                        <a:pt x="185" y="295"/>
                      </a:lnTo>
                      <a:lnTo>
                        <a:pt x="184" y="340"/>
                      </a:lnTo>
                      <a:lnTo>
                        <a:pt x="168" y="382"/>
                      </a:lnTo>
                      <a:lnTo>
                        <a:pt x="149" y="425"/>
                      </a:lnTo>
                      <a:lnTo>
                        <a:pt x="129" y="449"/>
                      </a:lnTo>
                      <a:lnTo>
                        <a:pt x="106" y="469"/>
                      </a:lnTo>
                      <a:lnTo>
                        <a:pt x="85" y="470"/>
                      </a:lnTo>
                      <a:lnTo>
                        <a:pt x="63" y="475"/>
                      </a:lnTo>
                      <a:lnTo>
                        <a:pt x="47" y="464"/>
                      </a:lnTo>
                      <a:lnTo>
                        <a:pt x="38" y="433"/>
                      </a:lnTo>
                      <a:lnTo>
                        <a:pt x="29" y="413"/>
                      </a:lnTo>
                      <a:lnTo>
                        <a:pt x="25" y="365"/>
                      </a:lnTo>
                      <a:lnTo>
                        <a:pt x="29" y="326"/>
                      </a:lnTo>
                      <a:lnTo>
                        <a:pt x="43" y="297"/>
                      </a:lnTo>
                      <a:lnTo>
                        <a:pt x="47" y="273"/>
                      </a:lnTo>
                      <a:lnTo>
                        <a:pt x="50" y="252"/>
                      </a:lnTo>
                      <a:lnTo>
                        <a:pt x="46" y="217"/>
                      </a:lnTo>
                      <a:lnTo>
                        <a:pt x="38" y="180"/>
                      </a:lnTo>
                      <a:lnTo>
                        <a:pt x="20" y="142"/>
                      </a:lnTo>
                      <a:lnTo>
                        <a:pt x="8" y="110"/>
                      </a:lnTo>
                      <a:lnTo>
                        <a:pt x="0" y="66"/>
                      </a:lnTo>
                      <a:lnTo>
                        <a:pt x="7" y="38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026480" y="1763640"/>
                  <a:ext cx="132840" cy="388080"/>
                </a:xfrm>
                <a:custGeom>
                  <a:avLst/>
                  <a:gdLst/>
                  <a:ahLst/>
                  <a:rect l="l" t="t" r="r" b="b"/>
                  <a:pathLst>
                    <a:path w="111" h="490">
                      <a:moveTo>
                        <a:pt x="58" y="94"/>
                      </a:moveTo>
                      <a:lnTo>
                        <a:pt x="78" y="25"/>
                      </a:lnTo>
                      <a:lnTo>
                        <a:pt x="94" y="0"/>
                      </a:lnTo>
                      <a:lnTo>
                        <a:pt x="107" y="25"/>
                      </a:lnTo>
                      <a:lnTo>
                        <a:pt x="111" y="103"/>
                      </a:lnTo>
                      <a:lnTo>
                        <a:pt x="102" y="125"/>
                      </a:lnTo>
                      <a:lnTo>
                        <a:pt x="74" y="163"/>
                      </a:lnTo>
                      <a:lnTo>
                        <a:pt x="49" y="200"/>
                      </a:lnTo>
                      <a:lnTo>
                        <a:pt x="33" y="224"/>
                      </a:lnTo>
                      <a:lnTo>
                        <a:pt x="33" y="244"/>
                      </a:lnTo>
                      <a:lnTo>
                        <a:pt x="49" y="271"/>
                      </a:lnTo>
                      <a:lnTo>
                        <a:pt x="75" y="311"/>
                      </a:lnTo>
                      <a:lnTo>
                        <a:pt x="96" y="332"/>
                      </a:lnTo>
                      <a:lnTo>
                        <a:pt x="102" y="380"/>
                      </a:lnTo>
                      <a:lnTo>
                        <a:pt x="92" y="393"/>
                      </a:lnTo>
                      <a:lnTo>
                        <a:pt x="75" y="413"/>
                      </a:lnTo>
                      <a:lnTo>
                        <a:pt x="61" y="435"/>
                      </a:lnTo>
                      <a:lnTo>
                        <a:pt x="52" y="480"/>
                      </a:lnTo>
                      <a:lnTo>
                        <a:pt x="39" y="490"/>
                      </a:lnTo>
                      <a:lnTo>
                        <a:pt x="29" y="465"/>
                      </a:lnTo>
                      <a:lnTo>
                        <a:pt x="38" y="419"/>
                      </a:lnTo>
                      <a:lnTo>
                        <a:pt x="62" y="369"/>
                      </a:lnTo>
                      <a:lnTo>
                        <a:pt x="71" y="350"/>
                      </a:lnTo>
                      <a:lnTo>
                        <a:pt x="62" y="336"/>
                      </a:lnTo>
                      <a:lnTo>
                        <a:pt x="29" y="305"/>
                      </a:lnTo>
                      <a:lnTo>
                        <a:pt x="7" y="263"/>
                      </a:lnTo>
                      <a:lnTo>
                        <a:pt x="0" y="224"/>
                      </a:lnTo>
                      <a:lnTo>
                        <a:pt x="4" y="206"/>
                      </a:lnTo>
                      <a:lnTo>
                        <a:pt x="20" y="170"/>
                      </a:lnTo>
                      <a:lnTo>
                        <a:pt x="39" y="137"/>
                      </a:lnTo>
                      <a:lnTo>
                        <a:pt x="58" y="94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173720" y="1440000"/>
                  <a:ext cx="361800" cy="383040"/>
                </a:xfrm>
                <a:custGeom>
                  <a:avLst/>
                  <a:gdLst/>
                  <a:ahLst/>
                  <a:rect l="l" t="t" r="r" b="b"/>
                  <a:pathLst>
                    <a:path w="306" h="481">
                      <a:moveTo>
                        <a:pt x="10" y="409"/>
                      </a:moveTo>
                      <a:lnTo>
                        <a:pt x="59" y="407"/>
                      </a:lnTo>
                      <a:lnTo>
                        <a:pt x="110" y="409"/>
                      </a:lnTo>
                      <a:lnTo>
                        <a:pt x="157" y="391"/>
                      </a:lnTo>
                      <a:lnTo>
                        <a:pt x="185" y="352"/>
                      </a:lnTo>
                      <a:lnTo>
                        <a:pt x="208" y="280"/>
                      </a:lnTo>
                      <a:lnTo>
                        <a:pt x="217" y="210"/>
                      </a:lnTo>
                      <a:lnTo>
                        <a:pt x="221" y="155"/>
                      </a:lnTo>
                      <a:lnTo>
                        <a:pt x="220" y="113"/>
                      </a:lnTo>
                      <a:lnTo>
                        <a:pt x="211" y="74"/>
                      </a:lnTo>
                      <a:lnTo>
                        <a:pt x="225" y="33"/>
                      </a:lnTo>
                      <a:lnTo>
                        <a:pt x="246" y="21"/>
                      </a:lnTo>
                      <a:lnTo>
                        <a:pt x="259" y="39"/>
                      </a:lnTo>
                      <a:lnTo>
                        <a:pt x="246" y="65"/>
                      </a:lnTo>
                      <a:lnTo>
                        <a:pt x="236" y="71"/>
                      </a:lnTo>
                      <a:lnTo>
                        <a:pt x="246" y="95"/>
                      </a:lnTo>
                      <a:lnTo>
                        <a:pt x="262" y="95"/>
                      </a:lnTo>
                      <a:lnTo>
                        <a:pt x="283" y="56"/>
                      </a:lnTo>
                      <a:lnTo>
                        <a:pt x="280" y="45"/>
                      </a:lnTo>
                      <a:lnTo>
                        <a:pt x="263" y="38"/>
                      </a:lnTo>
                      <a:lnTo>
                        <a:pt x="262" y="8"/>
                      </a:lnTo>
                      <a:lnTo>
                        <a:pt x="270" y="0"/>
                      </a:lnTo>
                      <a:lnTo>
                        <a:pt x="291" y="2"/>
                      </a:lnTo>
                      <a:lnTo>
                        <a:pt x="306" y="27"/>
                      </a:lnTo>
                      <a:lnTo>
                        <a:pt x="305" y="81"/>
                      </a:lnTo>
                      <a:lnTo>
                        <a:pt x="287" y="111"/>
                      </a:lnTo>
                      <a:lnTo>
                        <a:pt x="266" y="137"/>
                      </a:lnTo>
                      <a:lnTo>
                        <a:pt x="240" y="150"/>
                      </a:lnTo>
                      <a:lnTo>
                        <a:pt x="240" y="231"/>
                      </a:lnTo>
                      <a:lnTo>
                        <a:pt x="232" y="309"/>
                      </a:lnTo>
                      <a:lnTo>
                        <a:pt x="217" y="364"/>
                      </a:lnTo>
                      <a:lnTo>
                        <a:pt x="194" y="409"/>
                      </a:lnTo>
                      <a:lnTo>
                        <a:pt x="167" y="433"/>
                      </a:lnTo>
                      <a:lnTo>
                        <a:pt x="128" y="454"/>
                      </a:lnTo>
                      <a:lnTo>
                        <a:pt x="89" y="473"/>
                      </a:lnTo>
                      <a:lnTo>
                        <a:pt x="44" y="481"/>
                      </a:lnTo>
                      <a:lnTo>
                        <a:pt x="12" y="475"/>
                      </a:lnTo>
                      <a:lnTo>
                        <a:pt x="0" y="443"/>
                      </a:lnTo>
                      <a:lnTo>
                        <a:pt x="10" y="409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209360" y="1994760"/>
                  <a:ext cx="247680" cy="530640"/>
                </a:xfrm>
                <a:custGeom>
                  <a:avLst/>
                  <a:gdLst/>
                  <a:ahLst/>
                  <a:rect l="l" t="t" r="r" b="b"/>
                  <a:pathLst>
                    <a:path w="207" h="667">
                      <a:moveTo>
                        <a:pt x="8" y="102"/>
                      </a:moveTo>
                      <a:lnTo>
                        <a:pt x="0" y="49"/>
                      </a:lnTo>
                      <a:lnTo>
                        <a:pt x="13" y="10"/>
                      </a:lnTo>
                      <a:lnTo>
                        <a:pt x="46" y="0"/>
                      </a:lnTo>
                      <a:lnTo>
                        <a:pt x="64" y="31"/>
                      </a:lnTo>
                      <a:lnTo>
                        <a:pt x="68" y="121"/>
                      </a:lnTo>
                      <a:lnTo>
                        <a:pt x="75" y="245"/>
                      </a:lnTo>
                      <a:lnTo>
                        <a:pt x="77" y="326"/>
                      </a:lnTo>
                      <a:lnTo>
                        <a:pt x="72" y="440"/>
                      </a:lnTo>
                      <a:lnTo>
                        <a:pt x="71" y="540"/>
                      </a:lnTo>
                      <a:lnTo>
                        <a:pt x="68" y="583"/>
                      </a:lnTo>
                      <a:lnTo>
                        <a:pt x="77" y="612"/>
                      </a:lnTo>
                      <a:lnTo>
                        <a:pt x="97" y="618"/>
                      </a:lnTo>
                      <a:lnTo>
                        <a:pt x="142" y="601"/>
                      </a:lnTo>
                      <a:lnTo>
                        <a:pt x="186" y="589"/>
                      </a:lnTo>
                      <a:lnTo>
                        <a:pt x="203" y="606"/>
                      </a:lnTo>
                      <a:lnTo>
                        <a:pt x="207" y="627"/>
                      </a:lnTo>
                      <a:lnTo>
                        <a:pt x="194" y="651"/>
                      </a:lnTo>
                      <a:lnTo>
                        <a:pt x="161" y="655"/>
                      </a:lnTo>
                      <a:lnTo>
                        <a:pt x="127" y="649"/>
                      </a:lnTo>
                      <a:lnTo>
                        <a:pt x="82" y="651"/>
                      </a:lnTo>
                      <a:lnTo>
                        <a:pt x="58" y="667"/>
                      </a:lnTo>
                      <a:lnTo>
                        <a:pt x="37" y="655"/>
                      </a:lnTo>
                      <a:lnTo>
                        <a:pt x="37" y="639"/>
                      </a:lnTo>
                      <a:lnTo>
                        <a:pt x="42" y="606"/>
                      </a:lnTo>
                      <a:lnTo>
                        <a:pt x="47" y="571"/>
                      </a:lnTo>
                      <a:lnTo>
                        <a:pt x="46" y="507"/>
                      </a:lnTo>
                      <a:lnTo>
                        <a:pt x="42" y="449"/>
                      </a:lnTo>
                      <a:lnTo>
                        <a:pt x="33" y="374"/>
                      </a:lnTo>
                      <a:lnTo>
                        <a:pt x="39" y="317"/>
                      </a:lnTo>
                      <a:lnTo>
                        <a:pt x="33" y="262"/>
                      </a:lnTo>
                      <a:lnTo>
                        <a:pt x="24" y="184"/>
                      </a:lnTo>
                      <a:lnTo>
                        <a:pt x="8" y="102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149960" y="2044440"/>
                  <a:ext cx="135360" cy="561960"/>
                </a:xfrm>
                <a:custGeom>
                  <a:avLst/>
                  <a:gdLst/>
                  <a:ahLst/>
                  <a:rect l="l" t="t" r="r" b="b"/>
                  <a:pathLst>
                    <a:path w="114" h="709">
                      <a:moveTo>
                        <a:pt x="0" y="80"/>
                      </a:moveTo>
                      <a:lnTo>
                        <a:pt x="12" y="23"/>
                      </a:lnTo>
                      <a:lnTo>
                        <a:pt x="31" y="0"/>
                      </a:lnTo>
                      <a:lnTo>
                        <a:pt x="52" y="5"/>
                      </a:lnTo>
                      <a:lnTo>
                        <a:pt x="69" y="35"/>
                      </a:lnTo>
                      <a:lnTo>
                        <a:pt x="62" y="121"/>
                      </a:lnTo>
                      <a:lnTo>
                        <a:pt x="58" y="225"/>
                      </a:lnTo>
                      <a:lnTo>
                        <a:pt x="53" y="319"/>
                      </a:lnTo>
                      <a:lnTo>
                        <a:pt x="65" y="398"/>
                      </a:lnTo>
                      <a:lnTo>
                        <a:pt x="66" y="488"/>
                      </a:lnTo>
                      <a:lnTo>
                        <a:pt x="58" y="576"/>
                      </a:lnTo>
                      <a:lnTo>
                        <a:pt x="61" y="599"/>
                      </a:lnTo>
                      <a:lnTo>
                        <a:pt x="74" y="630"/>
                      </a:lnTo>
                      <a:lnTo>
                        <a:pt x="111" y="660"/>
                      </a:lnTo>
                      <a:lnTo>
                        <a:pt x="114" y="679"/>
                      </a:lnTo>
                      <a:lnTo>
                        <a:pt x="110" y="697"/>
                      </a:lnTo>
                      <a:lnTo>
                        <a:pt x="75" y="709"/>
                      </a:lnTo>
                      <a:lnTo>
                        <a:pt x="56" y="687"/>
                      </a:lnTo>
                      <a:lnTo>
                        <a:pt x="52" y="656"/>
                      </a:lnTo>
                      <a:lnTo>
                        <a:pt x="36" y="614"/>
                      </a:lnTo>
                      <a:lnTo>
                        <a:pt x="26" y="596"/>
                      </a:lnTo>
                      <a:lnTo>
                        <a:pt x="26" y="569"/>
                      </a:lnTo>
                      <a:lnTo>
                        <a:pt x="33" y="534"/>
                      </a:lnTo>
                      <a:lnTo>
                        <a:pt x="29" y="470"/>
                      </a:lnTo>
                      <a:lnTo>
                        <a:pt x="29" y="374"/>
                      </a:lnTo>
                      <a:lnTo>
                        <a:pt x="16" y="305"/>
                      </a:lnTo>
                      <a:lnTo>
                        <a:pt x="9" y="213"/>
                      </a:lnTo>
                      <a:lnTo>
                        <a:pt x="0" y="129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369120" y="1276200"/>
              <a:ext cx="632880" cy="1431720"/>
              <a:chOff x="6369120" y="1276200"/>
              <a:chExt cx="632880" cy="143172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6745320" y="1276200"/>
                <a:ext cx="124920" cy="289800"/>
                <a:chOff x="6745320" y="1276200"/>
                <a:chExt cx="124920" cy="2898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832080" y="1521000"/>
                  <a:ext cx="38160" cy="4500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796080" y="1442880"/>
                  <a:ext cx="38160" cy="4500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805080" y="1350000"/>
                  <a:ext cx="40680" cy="4248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745320" y="1276200"/>
                  <a:ext cx="40680" cy="428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369120" y="1614600"/>
                <a:ext cx="632880" cy="1093320"/>
                <a:chOff x="6369120" y="1614600"/>
                <a:chExt cx="632880" cy="109332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797520" y="1614600"/>
                  <a:ext cx="173160" cy="178200"/>
                  <a:chOff x="6797520" y="1614600"/>
                  <a:chExt cx="173160" cy="178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797520" y="1614600"/>
                    <a:ext cx="17316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224">
                        <a:moveTo>
                          <a:pt x="17" y="49"/>
                        </a:moveTo>
                        <a:lnTo>
                          <a:pt x="36" y="31"/>
                        </a:lnTo>
                        <a:lnTo>
                          <a:pt x="62" y="19"/>
                        </a:lnTo>
                        <a:lnTo>
                          <a:pt x="88" y="10"/>
                        </a:lnTo>
                        <a:lnTo>
                          <a:pt x="115" y="19"/>
                        </a:lnTo>
                        <a:lnTo>
                          <a:pt x="125" y="27"/>
                        </a:lnTo>
                        <a:lnTo>
                          <a:pt x="133" y="46"/>
                        </a:lnTo>
                        <a:lnTo>
                          <a:pt x="129" y="75"/>
                        </a:lnTo>
                        <a:lnTo>
                          <a:pt x="117" y="102"/>
                        </a:lnTo>
                        <a:lnTo>
                          <a:pt x="100" y="118"/>
                        </a:lnTo>
                        <a:lnTo>
                          <a:pt x="81" y="137"/>
                        </a:lnTo>
                        <a:lnTo>
                          <a:pt x="75" y="148"/>
                        </a:lnTo>
                        <a:lnTo>
                          <a:pt x="71" y="158"/>
                        </a:lnTo>
                        <a:lnTo>
                          <a:pt x="74" y="193"/>
                        </a:lnTo>
                        <a:lnTo>
                          <a:pt x="87" y="224"/>
                        </a:lnTo>
                        <a:lnTo>
                          <a:pt x="99" y="220"/>
                        </a:lnTo>
                        <a:lnTo>
                          <a:pt x="87" y="167"/>
                        </a:lnTo>
                        <a:lnTo>
                          <a:pt x="96" y="143"/>
                        </a:lnTo>
                        <a:lnTo>
                          <a:pt x="129" y="118"/>
                        </a:lnTo>
                        <a:lnTo>
                          <a:pt x="141" y="93"/>
                        </a:lnTo>
                        <a:lnTo>
                          <a:pt x="146" y="70"/>
                        </a:lnTo>
                        <a:lnTo>
                          <a:pt x="147" y="40"/>
                        </a:lnTo>
                        <a:lnTo>
                          <a:pt x="133" y="15"/>
                        </a:lnTo>
                        <a:lnTo>
                          <a:pt x="120" y="1"/>
                        </a:lnTo>
                        <a:lnTo>
                          <a:pt x="98" y="0"/>
                        </a:lnTo>
                        <a:lnTo>
                          <a:pt x="68" y="0"/>
                        </a:lnTo>
                        <a:lnTo>
                          <a:pt x="40" y="15"/>
                        </a:lnTo>
                        <a:lnTo>
                          <a:pt x="17" y="30"/>
                        </a:lnTo>
                        <a:lnTo>
                          <a:pt x="0" y="51"/>
                        </a:lnTo>
                        <a:lnTo>
                          <a:pt x="3" y="72"/>
                        </a:lnTo>
                        <a:lnTo>
                          <a:pt x="11" y="87"/>
                        </a:lnTo>
                        <a:lnTo>
                          <a:pt x="21" y="93"/>
                        </a:lnTo>
                        <a:lnTo>
                          <a:pt x="45" y="96"/>
                        </a:lnTo>
                        <a:lnTo>
                          <a:pt x="67" y="88"/>
                        </a:lnTo>
                        <a:lnTo>
                          <a:pt x="92" y="76"/>
                        </a:lnTo>
                        <a:lnTo>
                          <a:pt x="113" y="61"/>
                        </a:lnTo>
                        <a:lnTo>
                          <a:pt x="115" y="51"/>
                        </a:lnTo>
                        <a:lnTo>
                          <a:pt x="113" y="42"/>
                        </a:lnTo>
                        <a:lnTo>
                          <a:pt x="96" y="55"/>
                        </a:lnTo>
                        <a:lnTo>
                          <a:pt x="69" y="70"/>
                        </a:lnTo>
                        <a:lnTo>
                          <a:pt x="49" y="78"/>
                        </a:lnTo>
                        <a:lnTo>
                          <a:pt x="33" y="78"/>
                        </a:lnTo>
                        <a:lnTo>
                          <a:pt x="17" y="75"/>
                        </a:lnTo>
                        <a:lnTo>
                          <a:pt x="17" y="4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804360" y="1674360"/>
                    <a:ext cx="925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05">
                        <a:moveTo>
                          <a:pt x="0" y="0"/>
                        </a:moveTo>
                        <a:lnTo>
                          <a:pt x="9" y="36"/>
                        </a:lnTo>
                        <a:lnTo>
                          <a:pt x="25" y="64"/>
                        </a:lnTo>
                        <a:lnTo>
                          <a:pt x="43" y="79"/>
                        </a:lnTo>
                        <a:lnTo>
                          <a:pt x="65" y="93"/>
                        </a:lnTo>
                        <a:lnTo>
                          <a:pt x="71" y="105"/>
                        </a:lnTo>
                        <a:lnTo>
                          <a:pt x="77" y="75"/>
                        </a:lnTo>
                        <a:lnTo>
                          <a:pt x="53" y="60"/>
                        </a:lnTo>
                        <a:lnTo>
                          <a:pt x="30" y="39"/>
                        </a:lnTo>
                        <a:lnTo>
                          <a:pt x="16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626520" y="1678680"/>
                  <a:ext cx="221040" cy="209880"/>
                </a:xfrm>
                <a:custGeom>
                  <a:avLst/>
                  <a:gdLst/>
                  <a:ahLst/>
                  <a:rect l="l" t="t" r="r" b="b"/>
                  <a:pathLst>
                    <a:path w="184" h="265">
                      <a:moveTo>
                        <a:pt x="130" y="102"/>
                      </a:moveTo>
                      <a:lnTo>
                        <a:pt x="117" y="60"/>
                      </a:lnTo>
                      <a:lnTo>
                        <a:pt x="96" y="26"/>
                      </a:lnTo>
                      <a:lnTo>
                        <a:pt x="73" y="2"/>
                      </a:lnTo>
                      <a:lnTo>
                        <a:pt x="49" y="0"/>
                      </a:lnTo>
                      <a:lnTo>
                        <a:pt x="21" y="20"/>
                      </a:lnTo>
                      <a:lnTo>
                        <a:pt x="10" y="51"/>
                      </a:lnTo>
                      <a:lnTo>
                        <a:pt x="1" y="96"/>
                      </a:lnTo>
                      <a:lnTo>
                        <a:pt x="0" y="147"/>
                      </a:lnTo>
                      <a:lnTo>
                        <a:pt x="4" y="198"/>
                      </a:lnTo>
                      <a:lnTo>
                        <a:pt x="14" y="233"/>
                      </a:lnTo>
                      <a:lnTo>
                        <a:pt x="44" y="259"/>
                      </a:lnTo>
                      <a:lnTo>
                        <a:pt x="70" y="265"/>
                      </a:lnTo>
                      <a:lnTo>
                        <a:pt x="95" y="259"/>
                      </a:lnTo>
                      <a:lnTo>
                        <a:pt x="117" y="229"/>
                      </a:lnTo>
                      <a:lnTo>
                        <a:pt x="125" y="189"/>
                      </a:lnTo>
                      <a:lnTo>
                        <a:pt x="137" y="139"/>
                      </a:lnTo>
                      <a:lnTo>
                        <a:pt x="163" y="136"/>
                      </a:lnTo>
                      <a:lnTo>
                        <a:pt x="181" y="133"/>
                      </a:lnTo>
                      <a:lnTo>
                        <a:pt x="184" y="114"/>
                      </a:lnTo>
                      <a:lnTo>
                        <a:pt x="176" y="88"/>
                      </a:lnTo>
                      <a:lnTo>
                        <a:pt x="152" y="102"/>
                      </a:lnTo>
                      <a:lnTo>
                        <a:pt x="130" y="10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702480" y="1909800"/>
                  <a:ext cx="171000" cy="352440"/>
                </a:xfrm>
                <a:custGeom>
                  <a:avLst/>
                  <a:gdLst/>
                  <a:ahLst/>
                  <a:rect l="l" t="t" r="r" b="b"/>
                  <a:pathLst>
                    <a:path w="143" h="444">
                      <a:moveTo>
                        <a:pt x="13" y="7"/>
                      </a:moveTo>
                      <a:lnTo>
                        <a:pt x="38" y="0"/>
                      </a:lnTo>
                      <a:lnTo>
                        <a:pt x="62" y="7"/>
                      </a:lnTo>
                      <a:lnTo>
                        <a:pt x="79" y="28"/>
                      </a:lnTo>
                      <a:lnTo>
                        <a:pt x="101" y="58"/>
                      </a:lnTo>
                      <a:lnTo>
                        <a:pt x="116" y="93"/>
                      </a:lnTo>
                      <a:lnTo>
                        <a:pt x="128" y="139"/>
                      </a:lnTo>
                      <a:lnTo>
                        <a:pt x="137" y="179"/>
                      </a:lnTo>
                      <a:lnTo>
                        <a:pt x="143" y="230"/>
                      </a:lnTo>
                      <a:lnTo>
                        <a:pt x="141" y="277"/>
                      </a:lnTo>
                      <a:lnTo>
                        <a:pt x="140" y="318"/>
                      </a:lnTo>
                      <a:lnTo>
                        <a:pt x="128" y="357"/>
                      </a:lnTo>
                      <a:lnTo>
                        <a:pt x="113" y="398"/>
                      </a:lnTo>
                      <a:lnTo>
                        <a:pt x="98" y="422"/>
                      </a:lnTo>
                      <a:lnTo>
                        <a:pt x="81" y="438"/>
                      </a:lnTo>
                      <a:lnTo>
                        <a:pt x="64" y="440"/>
                      </a:lnTo>
                      <a:lnTo>
                        <a:pt x="48" y="444"/>
                      </a:lnTo>
                      <a:lnTo>
                        <a:pt x="36" y="435"/>
                      </a:lnTo>
                      <a:lnTo>
                        <a:pt x="29" y="405"/>
                      </a:lnTo>
                      <a:lnTo>
                        <a:pt x="21" y="386"/>
                      </a:lnTo>
                      <a:lnTo>
                        <a:pt x="18" y="342"/>
                      </a:lnTo>
                      <a:lnTo>
                        <a:pt x="21" y="305"/>
                      </a:lnTo>
                      <a:lnTo>
                        <a:pt x="33" y="278"/>
                      </a:lnTo>
                      <a:lnTo>
                        <a:pt x="36" y="254"/>
                      </a:lnTo>
                      <a:lnTo>
                        <a:pt x="38" y="236"/>
                      </a:lnTo>
                      <a:lnTo>
                        <a:pt x="35" y="203"/>
                      </a:lnTo>
                      <a:lnTo>
                        <a:pt x="29" y="167"/>
                      </a:lnTo>
                      <a:lnTo>
                        <a:pt x="15" y="133"/>
                      </a:lnTo>
                      <a:lnTo>
                        <a:pt x="6" y="102"/>
                      </a:lnTo>
                      <a:lnTo>
                        <a:pt x="0" y="61"/>
                      </a:lnTo>
                      <a:lnTo>
                        <a:pt x="5" y="34"/>
                      </a:lnTo>
                      <a:lnTo>
                        <a:pt x="13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785640" y="1724040"/>
                  <a:ext cx="154800" cy="281160"/>
                </a:xfrm>
                <a:custGeom>
                  <a:avLst/>
                  <a:gdLst/>
                  <a:ahLst/>
                  <a:rect l="l" t="t" r="r" b="b"/>
                  <a:pathLst>
                    <a:path w="130" h="356">
                      <a:moveTo>
                        <a:pt x="1" y="308"/>
                      </a:moveTo>
                      <a:lnTo>
                        <a:pt x="13" y="283"/>
                      </a:lnTo>
                      <a:lnTo>
                        <a:pt x="44" y="283"/>
                      </a:lnTo>
                      <a:lnTo>
                        <a:pt x="76" y="266"/>
                      </a:lnTo>
                      <a:lnTo>
                        <a:pt x="87" y="241"/>
                      </a:lnTo>
                      <a:lnTo>
                        <a:pt x="93" y="202"/>
                      </a:lnTo>
                      <a:lnTo>
                        <a:pt x="91" y="154"/>
                      </a:lnTo>
                      <a:lnTo>
                        <a:pt x="87" y="111"/>
                      </a:lnTo>
                      <a:lnTo>
                        <a:pt x="86" y="81"/>
                      </a:lnTo>
                      <a:lnTo>
                        <a:pt x="74" y="58"/>
                      </a:lnTo>
                      <a:lnTo>
                        <a:pt x="76" y="28"/>
                      </a:lnTo>
                      <a:lnTo>
                        <a:pt x="87" y="19"/>
                      </a:lnTo>
                      <a:lnTo>
                        <a:pt x="97" y="28"/>
                      </a:lnTo>
                      <a:lnTo>
                        <a:pt x="93" y="49"/>
                      </a:lnTo>
                      <a:lnTo>
                        <a:pt x="89" y="52"/>
                      </a:lnTo>
                      <a:lnTo>
                        <a:pt x="97" y="69"/>
                      </a:lnTo>
                      <a:lnTo>
                        <a:pt x="108" y="69"/>
                      </a:lnTo>
                      <a:lnTo>
                        <a:pt x="116" y="39"/>
                      </a:lnTo>
                      <a:lnTo>
                        <a:pt x="110" y="31"/>
                      </a:lnTo>
                      <a:lnTo>
                        <a:pt x="99" y="28"/>
                      </a:lnTo>
                      <a:lnTo>
                        <a:pt x="96" y="9"/>
                      </a:lnTo>
                      <a:lnTo>
                        <a:pt x="99" y="0"/>
                      </a:lnTo>
                      <a:lnTo>
                        <a:pt x="111" y="0"/>
                      </a:lnTo>
                      <a:lnTo>
                        <a:pt x="123" y="16"/>
                      </a:lnTo>
                      <a:lnTo>
                        <a:pt x="130" y="57"/>
                      </a:lnTo>
                      <a:lnTo>
                        <a:pt x="123" y="79"/>
                      </a:lnTo>
                      <a:lnTo>
                        <a:pt x="117" y="94"/>
                      </a:lnTo>
                      <a:lnTo>
                        <a:pt x="107" y="117"/>
                      </a:lnTo>
                      <a:lnTo>
                        <a:pt x="116" y="164"/>
                      </a:lnTo>
                      <a:lnTo>
                        <a:pt x="120" y="221"/>
                      </a:lnTo>
                      <a:lnTo>
                        <a:pt x="120" y="262"/>
                      </a:lnTo>
                      <a:lnTo>
                        <a:pt x="113" y="293"/>
                      </a:lnTo>
                      <a:lnTo>
                        <a:pt x="100" y="313"/>
                      </a:lnTo>
                      <a:lnTo>
                        <a:pt x="78" y="331"/>
                      </a:lnTo>
                      <a:lnTo>
                        <a:pt x="58" y="345"/>
                      </a:lnTo>
                      <a:lnTo>
                        <a:pt x="33" y="356"/>
                      </a:lnTo>
                      <a:lnTo>
                        <a:pt x="14" y="354"/>
                      </a:lnTo>
                      <a:lnTo>
                        <a:pt x="0" y="334"/>
                      </a:lnTo>
                      <a:lnTo>
                        <a:pt x="1" y="308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369120" y="1805040"/>
                  <a:ext cx="383040" cy="247680"/>
                </a:xfrm>
                <a:custGeom>
                  <a:avLst/>
                  <a:gdLst/>
                  <a:ahLst/>
                  <a:rect l="l" t="t" r="r" b="b"/>
                  <a:pathLst>
                    <a:path w="324" h="312">
                      <a:moveTo>
                        <a:pt x="272" y="206"/>
                      </a:moveTo>
                      <a:lnTo>
                        <a:pt x="314" y="173"/>
                      </a:lnTo>
                      <a:lnTo>
                        <a:pt x="324" y="205"/>
                      </a:lnTo>
                      <a:lnTo>
                        <a:pt x="324" y="248"/>
                      </a:lnTo>
                      <a:lnTo>
                        <a:pt x="297" y="269"/>
                      </a:lnTo>
                      <a:lnTo>
                        <a:pt x="251" y="291"/>
                      </a:lnTo>
                      <a:lnTo>
                        <a:pt x="201" y="300"/>
                      </a:lnTo>
                      <a:lnTo>
                        <a:pt x="180" y="312"/>
                      </a:lnTo>
                      <a:lnTo>
                        <a:pt x="150" y="300"/>
                      </a:lnTo>
                      <a:lnTo>
                        <a:pt x="148" y="266"/>
                      </a:lnTo>
                      <a:lnTo>
                        <a:pt x="125" y="181"/>
                      </a:lnTo>
                      <a:lnTo>
                        <a:pt x="78" y="112"/>
                      </a:lnTo>
                      <a:lnTo>
                        <a:pt x="59" y="88"/>
                      </a:lnTo>
                      <a:lnTo>
                        <a:pt x="31" y="104"/>
                      </a:lnTo>
                      <a:lnTo>
                        <a:pt x="14" y="116"/>
                      </a:lnTo>
                      <a:lnTo>
                        <a:pt x="6" y="112"/>
                      </a:lnTo>
                      <a:lnTo>
                        <a:pt x="0" y="104"/>
                      </a:lnTo>
                      <a:lnTo>
                        <a:pt x="1" y="85"/>
                      </a:lnTo>
                      <a:lnTo>
                        <a:pt x="17" y="80"/>
                      </a:lnTo>
                      <a:lnTo>
                        <a:pt x="47" y="68"/>
                      </a:lnTo>
                      <a:lnTo>
                        <a:pt x="48" y="59"/>
                      </a:lnTo>
                      <a:lnTo>
                        <a:pt x="31" y="54"/>
                      </a:lnTo>
                      <a:lnTo>
                        <a:pt x="12" y="54"/>
                      </a:lnTo>
                      <a:lnTo>
                        <a:pt x="1" y="36"/>
                      </a:lnTo>
                      <a:lnTo>
                        <a:pt x="10" y="22"/>
                      </a:lnTo>
                      <a:lnTo>
                        <a:pt x="22" y="12"/>
                      </a:lnTo>
                      <a:lnTo>
                        <a:pt x="47" y="30"/>
                      </a:lnTo>
                      <a:lnTo>
                        <a:pt x="73" y="43"/>
                      </a:lnTo>
                      <a:lnTo>
                        <a:pt x="89" y="22"/>
                      </a:lnTo>
                      <a:lnTo>
                        <a:pt x="99" y="0"/>
                      </a:lnTo>
                      <a:lnTo>
                        <a:pt x="111" y="4"/>
                      </a:lnTo>
                      <a:lnTo>
                        <a:pt x="119" y="22"/>
                      </a:lnTo>
                      <a:lnTo>
                        <a:pt x="106" y="43"/>
                      </a:lnTo>
                      <a:lnTo>
                        <a:pt x="85" y="59"/>
                      </a:lnTo>
                      <a:lnTo>
                        <a:pt x="82" y="73"/>
                      </a:lnTo>
                      <a:lnTo>
                        <a:pt x="107" y="106"/>
                      </a:lnTo>
                      <a:lnTo>
                        <a:pt x="137" y="148"/>
                      </a:lnTo>
                      <a:lnTo>
                        <a:pt x="167" y="194"/>
                      </a:lnTo>
                      <a:lnTo>
                        <a:pt x="187" y="242"/>
                      </a:lnTo>
                      <a:lnTo>
                        <a:pt x="201" y="248"/>
                      </a:lnTo>
                      <a:lnTo>
                        <a:pt x="229" y="232"/>
                      </a:lnTo>
                      <a:lnTo>
                        <a:pt x="254" y="217"/>
                      </a:lnTo>
                      <a:lnTo>
                        <a:pt x="272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2188800"/>
                  <a:ext cx="137880" cy="519120"/>
                </a:xfrm>
                <a:custGeom>
                  <a:avLst/>
                  <a:gdLst/>
                  <a:ahLst/>
                  <a:rect l="l" t="t" r="r" b="b"/>
                  <a:pathLst>
                    <a:path w="114" h="654">
                      <a:moveTo>
                        <a:pt x="13" y="0"/>
                      </a:moveTo>
                      <a:lnTo>
                        <a:pt x="45" y="6"/>
                      </a:lnTo>
                      <a:lnTo>
                        <a:pt x="56" y="50"/>
                      </a:lnTo>
                      <a:lnTo>
                        <a:pt x="61" y="148"/>
                      </a:lnTo>
                      <a:lnTo>
                        <a:pt x="58" y="320"/>
                      </a:lnTo>
                      <a:lnTo>
                        <a:pt x="48" y="425"/>
                      </a:lnTo>
                      <a:lnTo>
                        <a:pt x="33" y="492"/>
                      </a:lnTo>
                      <a:lnTo>
                        <a:pt x="38" y="536"/>
                      </a:lnTo>
                      <a:lnTo>
                        <a:pt x="48" y="567"/>
                      </a:lnTo>
                      <a:lnTo>
                        <a:pt x="80" y="599"/>
                      </a:lnTo>
                      <a:lnTo>
                        <a:pt x="114" y="621"/>
                      </a:lnTo>
                      <a:lnTo>
                        <a:pt x="114" y="647"/>
                      </a:lnTo>
                      <a:lnTo>
                        <a:pt x="75" y="654"/>
                      </a:lnTo>
                      <a:lnTo>
                        <a:pt x="53" y="647"/>
                      </a:lnTo>
                      <a:lnTo>
                        <a:pt x="45" y="617"/>
                      </a:lnTo>
                      <a:lnTo>
                        <a:pt x="29" y="593"/>
                      </a:lnTo>
                      <a:lnTo>
                        <a:pt x="16" y="584"/>
                      </a:lnTo>
                      <a:lnTo>
                        <a:pt x="0" y="567"/>
                      </a:lnTo>
                      <a:lnTo>
                        <a:pt x="0" y="537"/>
                      </a:lnTo>
                      <a:lnTo>
                        <a:pt x="7" y="510"/>
                      </a:lnTo>
                      <a:lnTo>
                        <a:pt x="16" y="486"/>
                      </a:lnTo>
                      <a:lnTo>
                        <a:pt x="16" y="409"/>
                      </a:lnTo>
                      <a:lnTo>
                        <a:pt x="16" y="307"/>
                      </a:lnTo>
                      <a:lnTo>
                        <a:pt x="16" y="172"/>
                      </a:lnTo>
                      <a:lnTo>
                        <a:pt x="7" y="71"/>
                      </a:lnTo>
                      <a:lnTo>
                        <a:pt x="7" y="1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795360" y="2167200"/>
                  <a:ext cx="206640" cy="445680"/>
                </a:xfrm>
                <a:custGeom>
                  <a:avLst/>
                  <a:gdLst/>
                  <a:ahLst/>
                  <a:rect l="l" t="t" r="r" b="b"/>
                  <a:pathLst>
                    <a:path w="174" h="561">
                      <a:moveTo>
                        <a:pt x="38" y="0"/>
                      </a:moveTo>
                      <a:lnTo>
                        <a:pt x="51" y="49"/>
                      </a:lnTo>
                      <a:lnTo>
                        <a:pt x="71" y="148"/>
                      </a:lnTo>
                      <a:lnTo>
                        <a:pt x="79" y="235"/>
                      </a:lnTo>
                      <a:lnTo>
                        <a:pt x="79" y="332"/>
                      </a:lnTo>
                      <a:lnTo>
                        <a:pt x="76" y="420"/>
                      </a:lnTo>
                      <a:lnTo>
                        <a:pt x="74" y="488"/>
                      </a:lnTo>
                      <a:lnTo>
                        <a:pt x="79" y="511"/>
                      </a:lnTo>
                      <a:lnTo>
                        <a:pt x="88" y="523"/>
                      </a:lnTo>
                      <a:lnTo>
                        <a:pt x="150" y="516"/>
                      </a:lnTo>
                      <a:lnTo>
                        <a:pt x="174" y="522"/>
                      </a:lnTo>
                      <a:lnTo>
                        <a:pt x="174" y="537"/>
                      </a:lnTo>
                      <a:lnTo>
                        <a:pt x="154" y="561"/>
                      </a:lnTo>
                      <a:lnTo>
                        <a:pt x="113" y="561"/>
                      </a:lnTo>
                      <a:lnTo>
                        <a:pt x="83" y="549"/>
                      </a:lnTo>
                      <a:lnTo>
                        <a:pt x="62" y="549"/>
                      </a:lnTo>
                      <a:lnTo>
                        <a:pt x="43" y="546"/>
                      </a:lnTo>
                      <a:lnTo>
                        <a:pt x="37" y="528"/>
                      </a:lnTo>
                      <a:lnTo>
                        <a:pt x="47" y="511"/>
                      </a:lnTo>
                      <a:lnTo>
                        <a:pt x="53" y="485"/>
                      </a:lnTo>
                      <a:lnTo>
                        <a:pt x="57" y="413"/>
                      </a:lnTo>
                      <a:lnTo>
                        <a:pt x="51" y="307"/>
                      </a:lnTo>
                      <a:lnTo>
                        <a:pt x="53" y="260"/>
                      </a:lnTo>
                      <a:lnTo>
                        <a:pt x="34" y="179"/>
                      </a:lnTo>
                      <a:lnTo>
                        <a:pt x="6" y="106"/>
                      </a:lnTo>
                      <a:lnTo>
                        <a:pt x="0" y="49"/>
                      </a:lnTo>
                      <a:lnTo>
                        <a:pt x="14" y="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9" name=""/>
          <p:cNvSpPr/>
          <p:nvPr/>
        </p:nvSpPr>
        <p:spPr>
          <a:xfrm>
            <a:off x="3106800" y="1952640"/>
            <a:ext cx="3281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763720" y="5756400"/>
            <a:ext cx="4308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51720" y="2552760"/>
            <a:ext cx="0" cy="22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63720" y="2486160"/>
            <a:ext cx="1505160" cy="100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54760" y="4022640"/>
            <a:ext cx="1915920" cy="1400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27320" y="142092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Funded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56320" y="528948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onceptualiz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092800">
            <a:off x="2947320" y="26179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Declin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224200">
            <a:off x="5335200" y="42987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Try agai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5380200">
            <a:off x="6902640" y="355284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What next?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1271520" y="40600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Wri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1522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vantGarde Bk BT"/>
              </a:rPr>
              <a:t>The Proposal Cycl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1049040" y="300996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&amp; Revi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04920" y="762120"/>
            <a:ext cx="8610480" cy="228600"/>
            <a:chOff x="304920" y="762120"/>
            <a:chExt cx="8610480" cy="228600"/>
          </a:xfrm>
        </p:grpSpPr>
        <p:sp>
          <p:nvSpPr>
            <p:cNvPr id="243" name=""/>
            <p:cNvSpPr/>
            <p:nvPr/>
          </p:nvSpPr>
          <p:spPr>
            <a:xfrm>
              <a:off x="304920" y="762120"/>
              <a:ext cx="861048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4920" y="876600"/>
              <a:ext cx="8610480" cy="114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4480" y="304920"/>
            <a:ext cx="702792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4a1c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1262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33"/>
                </a:solidFill>
                <a:latin typeface="Arial"/>
              </a:rPr>
              <a:t>A good proposal is a good idea, well expressed, with a clear indication of methods for pursuing the idea, evaluating the findings, making them known to all who need to know, and indicating the broader impacts of the activity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80010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vantGarde Bk BT"/>
              </a:rPr>
              <a:t>Proposal Preparation</a:t>
            </a:r>
            <a:endParaRPr b="0" lang="en-US" sz="32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434340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04920" y="1143000"/>
            <a:ext cx="8610480" cy="228600"/>
            <a:chOff x="304920" y="1143000"/>
            <a:chExt cx="8610480" cy="228600"/>
          </a:xfrm>
        </p:grpSpPr>
        <p:sp>
          <p:nvSpPr>
            <p:cNvPr id="250" name=""/>
            <p:cNvSpPr/>
            <p:nvPr/>
          </p:nvSpPr>
          <p:spPr>
            <a:xfrm>
              <a:off x="304920" y="1143000"/>
              <a:ext cx="861048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4920" y="1257480"/>
              <a:ext cx="8610480" cy="114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971800" y="2362320"/>
            <a:ext cx="3117960" cy="3351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all Your Program Director!</a:t>
            </a:r>
            <a:endParaRPr b="0" lang="en-US" sz="3600" spc="-1" strike="noStrike">
              <a:solidFill>
                <a:srgbClr val="204a1c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vantGarde Bk BT"/>
              </a:rPr>
              <a:t>Grant Proposal Guide (GPG)</a:t>
            </a:r>
            <a:endParaRPr b="0" lang="en-US" sz="32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Provides guidance for preparation of proposal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Describes process -- and criteria --by which proposals will be reviewed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Describes process for withdrawals, returns and declin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Describes the award process and procedures for requesting continued suppo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Identifies significant grant administrative highligh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vantGarde Bk BT"/>
              </a:rPr>
              <a:t>What to Look for in a Program Announcement</a:t>
            </a:r>
            <a:endParaRPr b="0" lang="en-US" sz="36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6705720" cy="31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5040" indent="-57168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vantGarde Bk BT"/>
              </a:rPr>
              <a:t>goal of progra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635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635040" indent="-57168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vantGarde Bk BT"/>
              </a:rPr>
              <a:t>eligibilit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635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635040" indent="-57168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vantGarde Bk BT"/>
              </a:rPr>
              <a:t>special requirement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8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Types of Proposal Submission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3976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 deadli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adli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arget da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23920" y="2209680"/>
            <a:ext cx="397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ubmission Window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eliminary proposal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057400" y="533520"/>
            <a:ext cx="50292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oo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roposal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3152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od proposal is a good idea, well expressed, with a clear indication of methods for pursuing the idea, evaluating the findings, and making them known to all who need to know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3886200"/>
            <a:ext cx="7772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4400" spc="-1" strike="noStrike">
                <a:solidFill>
                  <a:srgbClr val="009900"/>
                </a:solidFill>
                <a:latin typeface="Arial"/>
              </a:rPr>
              <a:t>Competit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roposal is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45720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for the Progra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ve to the Program Announcemen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What Makes a Proposal Competitive?</a:t>
            </a: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5280" y="152352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ikely high impac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ew and original ide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ccinct, focused project pla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Knowledge of subject area or published, relevant wo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xperience in essential methodolog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larity concerning future direc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ound scientific rat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alistic amount of wo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fficient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ritical approac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0010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NSF Merit Review Process</a:t>
            </a: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505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434340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09680" y="3048120"/>
            <a:ext cx="4538880" cy="258912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304920" y="1143000"/>
            <a:ext cx="8610480" cy="228600"/>
            <a:chOff x="304920" y="1143000"/>
            <a:chExt cx="8610480" cy="228600"/>
          </a:xfrm>
        </p:grpSpPr>
        <p:sp>
          <p:nvSpPr>
            <p:cNvPr id="95" name=""/>
            <p:cNvSpPr/>
            <p:nvPr/>
          </p:nvSpPr>
          <p:spPr>
            <a:xfrm>
              <a:off x="304920" y="1143000"/>
              <a:ext cx="861048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4920" y="1257480"/>
              <a:ext cx="8610480" cy="114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58406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Budgetary Guidelines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moun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asonable for work - Realisti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ell justified - Needs establish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-line with program guidelin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ligible cos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ersonn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quipmen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ra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rticipant Suppor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ther Direct Costs (including subawards, consultant services, computer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rvices, publication cost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09480" y="624852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alk to your Program Director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a4f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eafe"/>
                </a:solidFill>
                <a:latin typeface="Arial"/>
              </a:rPr>
              <a:t>Simple tips for a better proposa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871560"/>
            <a:ext cx="81536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llow formatting requirements carefully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 eligible fonts as in GPG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828800"/>
            <a:ext cx="8534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liance check before submitting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(FastLane won’t do it for you!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27432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Be available by email to fix compliance problems (proposals may be returned if NSF can’t contact you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35956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uggest review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4114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nclude all conflicts of interest in your CV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724280"/>
            <a:ext cx="71629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spond explicitly to previous review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(Panels are asked to comment on this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5653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Emphasize readability; avoid verbi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a1c"/>
                </a:solidFill>
                <a:latin typeface="Times New Roman"/>
              </a:rPr>
              <a:t>Advice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Learn to love rejec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ntact the program officer with specific questi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Revise and resubmi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llaboration is good, if appropriat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Discover alternative funding sourc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1676520"/>
            <a:ext cx="7745400" cy="74520"/>
          </a:xfrm>
          <a:prstGeom prst="rect">
            <a:avLst/>
          </a:prstGeom>
          <a:solidFill>
            <a:srgbClr val="0640f3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523880" cy="1131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a1c"/>
                </a:solidFill>
                <a:latin typeface="Times New Roman"/>
              </a:rPr>
              <a:t>Myths about NSF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nly funds researchers from elite institu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nce declined…always decline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nly funds “normal” sci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dvisory committees make funding deci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1676520"/>
            <a:ext cx="7745400" cy="74520"/>
          </a:xfrm>
          <a:prstGeom prst="rect">
            <a:avLst/>
          </a:prstGeom>
          <a:solidFill>
            <a:srgbClr val="0640f3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523880" cy="1131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’s and Don’ts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523880"/>
            <a:ext cx="647712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 to your Program Offic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verbiage, more readabil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e objections or criticism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y your budge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be greed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the rul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yourself plenty of ti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reviews careful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09680" y="2514240"/>
            <a:ext cx="4648320" cy="167652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Arial"/>
              </a:rPr>
              <a:t>Ask Us Early, </a:t>
            </a:r>
            <a:br>
              <a:rPr sz="4800"/>
            </a:br>
            <a:r>
              <a:rPr b="1" lang="en-US" sz="4800" spc="-1" strike="noStrike">
                <a:solidFill>
                  <a:srgbClr val="333333"/>
                </a:solidFill>
                <a:latin typeface="Arial"/>
              </a:rPr>
              <a:t>Ask Us Often!!</a:t>
            </a:r>
            <a:endParaRPr b="0" lang="en-US" sz="48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685800"/>
            <a:ext cx="63244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-609480" y="2743200"/>
            <a:ext cx="3047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0" y="2819520"/>
            <a:ext cx="37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76520" y="5335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The Prime Directiv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fc8a00"/>
            </a:solidFill>
            <a:miter/>
            <a:headEnd len="lg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eafe"/>
                </a:solidFill>
                <a:latin typeface="Arial"/>
              </a:rPr>
              <a:t>Merit Review and </a:t>
            </a:r>
            <a:br>
              <a:rPr sz="3600"/>
            </a:br>
            <a:r>
              <a:rPr b="1" lang="en-US" sz="3600" spc="-1" strike="noStrike">
                <a:solidFill>
                  <a:srgbClr val="b2eafe"/>
                </a:solidFill>
                <a:latin typeface="Arial"/>
              </a:rPr>
              <a:t>Proposal Preparation</a:t>
            </a:r>
            <a:endParaRPr b="0" lang="en-US" sz="36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2971800"/>
            <a:ext cx="815328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ark Courtne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ivision of Environmental Biolog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courtne@nsf.gov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28600" y="2590920"/>
          <a:ext cx="7621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90920"/>
                    <a:ext cx="762120" cy="1066680"/>
                  </a:xfrm>
                  <a:prstGeom prst="rect">
                    <a:avLst/>
                  </a:prstGeom>
                  <a:ln w="38160">
                    <a:solidFill>
                      <a:srgbClr val="000066"/>
                    </a:solidFill>
                    <a:miter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54440" y="4403880"/>
            <a:ext cx="1092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search &amp;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Education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ommunitie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172200"/>
            <a:ext cx="228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posal Preparation  Time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1720" y="2333520"/>
            <a:ext cx="12556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rg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submit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via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FastLane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1981080"/>
            <a:ext cx="685800" cy="28195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N S F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1981080"/>
            <a:ext cx="838080" cy="28195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NSF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gram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ffice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1981080"/>
            <a:ext cx="762120" cy="28195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gram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ffice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nalysi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&amp;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comm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2971800"/>
            <a:ext cx="762120" cy="83808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D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oncur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15200" y="1828800"/>
            <a:ext cx="609480" cy="60948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Via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GA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924680" y="4267080"/>
            <a:ext cx="1067040" cy="45720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rganization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3480" y="1657440"/>
            <a:ext cx="579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Min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3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vs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q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45160" y="6153120"/>
            <a:ext cx="2038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GA Review &amp; Processing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f Award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6127920"/>
            <a:ext cx="2895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posal Receipt to Division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irector Concurrence of Program      Officer  Recommendation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762120"/>
            <a:ext cx="1676520" cy="106668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GPG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nnouncement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Solicitation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136440"/>
            <a:ext cx="2209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NSF  Announce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pportunity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886200" y="762120"/>
            <a:ext cx="0" cy="2590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609480"/>
            <a:ext cx="2739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turned Without Review/Withdrawn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09480" y="37335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8288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2743200"/>
            <a:ext cx="990720" cy="3049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Mail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3200400"/>
            <a:ext cx="990720" cy="3049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anel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3657600"/>
            <a:ext cx="990720" cy="3049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Both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7432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105520" y="3352680"/>
            <a:ext cx="38088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33526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2819520"/>
            <a:ext cx="380880" cy="53316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1828800"/>
            <a:ext cx="831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ward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 Narrow"/>
              </a:rPr>
              <a:t>NSF Proposal &amp; Award Process &amp; Timeli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9280" y="4468680"/>
            <a:ext cx="70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ecline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34520" y="2133720"/>
            <a:ext cx="0" cy="21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839080" y="762120"/>
            <a:ext cx="0" cy="3504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35268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781680" y="21337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21337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1680" y="380988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01000" y="21337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7621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7621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33526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352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33526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44956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5772240"/>
            <a:ext cx="753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90 Day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63960" y="5772240"/>
            <a:ext cx="823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6 Month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5791320"/>
            <a:ext cx="91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30 Day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5425920"/>
            <a:ext cx="1523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posal Receipt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t NSF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6280" y="5548320"/>
            <a:ext cx="953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D Concur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95920" y="5540400"/>
            <a:ext cx="622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ward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286000" y="59432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81680" y="59432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839080" y="59432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8600" y="59432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565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a1c"/>
                </a:solidFill>
                <a:latin typeface="Arial"/>
              </a:rPr>
              <a:t>NSF Merit Review Criteria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15328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SB Approved Criteria includ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tellectual Meri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roader Impacts of the Proposed Effor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1600200"/>
            <a:ext cx="8534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Proposal Review Criterion:</a:t>
            </a:r>
            <a:br>
              <a:rPr sz="4000"/>
            </a:b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333333"/>
                </a:solidFill>
                <a:latin typeface="Arial"/>
              </a:rPr>
              <a:t>Intellectual Merit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057400"/>
            <a:ext cx="7315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otential to advance knowledge and understanding within and across fiel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Qualifications of investigato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reativity and originalit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nceptualization and organiz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ccess to resour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624852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1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1600200"/>
            <a:ext cx="8534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Proposal Review Criterion:</a:t>
            </a:r>
            <a:br>
              <a:rPr sz="4000"/>
            </a:b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333333"/>
                </a:solidFill>
                <a:latin typeface="Arial"/>
              </a:rPr>
              <a:t>Broader Impact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1600200"/>
            <a:ext cx="76197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dvances discovery while promoting teaching, training and learn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ens the participation of underrepresented groups (e.g., gender, ethnicity, disability, geographic, etc.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nhances the infrastructure for research and education, such as facilities, instrumentation, networks and  partnership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sults disseminated broad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tential benefits to socie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72400" y="624852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eafe"/>
                </a:solidFill>
                <a:latin typeface="Arial"/>
              </a:rPr>
              <a:t>NSF Merit Review Criteria</a:t>
            </a:r>
            <a:endParaRPr b="0" lang="en-US" sz="40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2590920"/>
            <a:ext cx="906768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Arial"/>
              </a:rPr>
              <a:t>Any proposal that does NOT address both merit criteri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Arial"/>
              </a:rPr>
              <a:t>in the Project Summary will b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Arial"/>
              </a:rPr>
              <a:t>RETURNED WITHOUT REVIEW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4a1c"/>
                </a:solidFill>
                <a:latin typeface="Arial"/>
              </a:rPr>
              <a:t>Return Without Review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Does not meet NSF proposal preparation requirements, such as page limitations, formatting,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Is inappropriate for funding by the NS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Is not responsive to the GPG or program announcement or solicit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Does not meet an announced proposal deadline da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Is submitted with insufficient lead-time to a target da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Is a duplicate of, or substantially similar to, a proposal already under consider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Was previously reviewed and declined and has not been substantially revised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4a1c"/>
                </a:solidFill>
                <a:latin typeface="Arial"/>
              </a:rPr>
              <a:t>NSF Sources of Reviewers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ogram Officer’s knowledge of what is being done and who’s doing what in the research are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ferences listed in propos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cent technical programs from professional socie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cent authors in Scientific and Engineering journal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viewer recommend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vestigator’s sugges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olunteers to Program Offic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1:05:06Z</dcterms:created>
  <dc:creator>Jeannine Cody</dc:creator>
  <dc:description/>
  <dc:language>en-US</dc:language>
  <cp:lastModifiedBy>collinsd</cp:lastModifiedBy>
  <dcterms:modified xsi:type="dcterms:W3CDTF">2007-09-21T18:15:09Z</dcterms:modified>
  <cp:revision>373</cp:revision>
  <dc:subject/>
  <dc:title>PowerPoint Presentation</dc:title>
</cp:coreProperties>
</file>